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509B5-E29B-43FB-A1D6-F38A6D571A25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9B37-C68C-4ED5-A924-AB4F3DF092E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E3CD8-DF50-41BA-BEA9-AE85ECAC4EE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0F5B90-DF15-4FF3-B57F-07CC30D9879C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F251B-FD03-4377-A1D0-ED6E9B7C481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70BAA9-BA24-47E8-A846-CD908D729B0E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6EB5-EA74-463E-A49B-40631F60498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4476-1E66-4CEA-871F-C83651481AC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DC9DD6-3BD5-466B-907D-E1E57F6DC2E0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F27B-13B9-44ED-869D-A3E393340D9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BF72DC-2BCF-4B36-B23E-49ECC258D643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FA3D-1C78-47E5-8B78-C01CE652E20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AB2A2-9FB0-4B3C-96E8-C227FED76B3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EE7C5E-6CBA-4002-B679-7268D50CA47C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607C-6C55-4CF5-A585-94461447F34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64B49B-53C8-4049-8051-D6BD373C6E52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2CE53-5CA6-4BDE-9AF9-C63FE5512E7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0C34-3563-49B5-870C-586BD086D73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CFFC4-BF09-4B83-BBA8-F30A5B7217E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F681-4421-48BA-9831-BA7EE3FF31A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8D0E2-4B7B-4B05-900F-AF5B7AC8A72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BFAA0-3461-4E84-BF4A-830468612EA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6DF-B772-48B2-B5F0-DCEC9149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882-07D1-47D7-AFF2-2123505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477-42B8-472E-9176-4157D228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274-3429-4B18-AE40-59D5116B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CF8-7623-4AA6-8F45-2F25C60D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988-3713-4A07-AD31-A0FDFCC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85-51A9-4F67-AA81-A413A7B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458-D941-462A-AFA5-24811E71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7AA-A2E6-4DFF-93EC-CC621EC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BB4-1961-447F-AA55-EFB56D6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93C-B09D-4E32-9ED6-92F71F9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631-97F1-4784-95A3-DF40198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B51-595E-46C0-B158-D10925957A2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47840" y="914400"/>
            <a:ext cx="83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ILLA 10: Interrelaciones metabólicas.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laciones entre las principales vías metabólicas. Utilización del NAD(P)H como agente reductor. Encrucijadas metabólicas. Regulación coordinada. Respiración celular en células animales. Metabolismo en hígado, musculo, cerebro y tejido adiposo. Adaptaciones metabólicas: postprandial y ayuno, en hibernación y en diferentes condiciones ambientales (anaerobiosis, temperaturas extremas)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del metabolismo en la célula vegetal: intermediarios comunes entre vías metabólicas. Respiración celular en células vegetales. Flujo de metabolitos durante el día y la noche. Relación entre ciclo del glioxilato y la gluconeogén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03120" y="10270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Equilibrio diná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31640" y="693720"/>
            <a:ext cx="16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95280" y="4572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1728720" cy="146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4"/>
          <a:stretch/>
        </p:blipFill>
        <p:spPr>
          <a:xfrm>
            <a:off x="6588000" y="1484280"/>
            <a:ext cx="212436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5"/>
          <a:stretch/>
        </p:blipFill>
        <p:spPr>
          <a:xfrm>
            <a:off x="2284560" y="1424160"/>
            <a:ext cx="4321080" cy="4092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878360" y="3692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052720" y="369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CuadroTexto"/>
          <p:cNvSpPr/>
          <p:nvPr/>
        </p:nvSpPr>
        <p:spPr>
          <a:xfrm>
            <a:off x="539640" y="277920"/>
            <a:ext cx="8209080" cy="451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ARA QUE EL ORGANISMO FUNCIONE ARMÓN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Y EN EQUILIB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SEE MECANISMOS DE </a:t>
            </a:r>
            <a:r>
              <a:rPr b="1" i="1" lang="es-MX" sz="2000" spc="-1" strike="noStrike" u="sng">
                <a:solidFill>
                  <a:srgbClr val="ff0000"/>
                </a:solidFill>
                <a:uFillTx/>
                <a:latin typeface="Century Gothic"/>
              </a:rPr>
              <a:t>CONTROL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QUE ASEGURAN QUE EL FLUJO METABÓLICO SE REALICE EN LA DIRECCIÓN Y CANTIDAD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STO ES LO QUE SE DENOMIN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s-MX" sz="2000" spc="-1" strike="noStrike" u="sng">
                <a:solidFill>
                  <a:srgbClr val="ff0000"/>
                </a:solidFill>
                <a:uFillTx/>
                <a:latin typeface="Century Gothic"/>
              </a:rPr>
              <a:t>REGULACIÓN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7240" y="479520"/>
            <a:ext cx="776952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l 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3"/>
          <p:cNvSpPr/>
          <p:nvPr/>
        </p:nvSpPr>
        <p:spPr>
          <a:xfrm>
            <a:off x="318960" y="2487600"/>
            <a:ext cx="252900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GULACION DE 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ángulo 4"/>
          <p:cNvSpPr/>
          <p:nvPr/>
        </p:nvSpPr>
        <p:spPr>
          <a:xfrm>
            <a:off x="236520" y="5589720"/>
            <a:ext cx="3903840" cy="39744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COMPARTIMENTALIZ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ángulo 5"/>
          <p:cNvSpPr/>
          <p:nvPr/>
        </p:nvSpPr>
        <p:spPr>
          <a:xfrm>
            <a:off x="3203640" y="1628640"/>
            <a:ext cx="172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ángulo 6"/>
          <p:cNvSpPr/>
          <p:nvPr/>
        </p:nvSpPr>
        <p:spPr>
          <a:xfrm>
            <a:off x="3166920" y="3645000"/>
            <a:ext cx="20894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CANT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(LEN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0"/>
          <p:cNvGrpSpPr/>
          <p:nvPr/>
        </p:nvGrpSpPr>
        <p:grpSpPr>
          <a:xfrm>
            <a:off x="4932360" y="1012680"/>
            <a:ext cx="2303640" cy="1768680"/>
            <a:chOff x="4932360" y="1012680"/>
            <a:chExt cx="2303640" cy="1768680"/>
          </a:xfrm>
        </p:grpSpPr>
        <p:sp>
          <p:nvSpPr>
            <p:cNvPr id="139" name="Rectángulo 7"/>
            <p:cNvSpPr/>
            <p:nvPr/>
          </p:nvSpPr>
          <p:spPr>
            <a:xfrm>
              <a:off x="5183280" y="1123920"/>
              <a:ext cx="2052720" cy="156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- [SUSTRATO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ODULADORES     ALOSTER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- MODIFICACION COVAL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orma libre 8"/>
            <p:cNvSpPr/>
            <p:nvPr/>
          </p:nvSpPr>
          <p:spPr>
            <a:xfrm>
              <a:off x="4932360" y="1012680"/>
              <a:ext cx="217440" cy="1768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768680"/>
                <a:gd name="textAreaBottom" fmla="*/ 1769040 h 1768680"/>
              </a:gdLst>
              <a:ahLst/>
              <a:rect l="textAreaLeft" t="textAreaTop" r="textAreaRight" b="textAreaBottom"/>
              <a:pathLst>
                <a:path w="137" h="999">
                  <a:moveTo>
                    <a:pt x="136" y="0"/>
                  </a:moveTo>
                  <a:lnTo>
                    <a:pt x="123" y="2"/>
                  </a:lnTo>
                  <a:lnTo>
                    <a:pt x="110" y="7"/>
                  </a:lnTo>
                  <a:lnTo>
                    <a:pt x="98" y="14"/>
                  </a:lnTo>
                  <a:lnTo>
                    <a:pt x="88" y="25"/>
                  </a:lnTo>
                  <a:lnTo>
                    <a:pt x="74" y="51"/>
                  </a:lnTo>
                  <a:lnTo>
                    <a:pt x="70" y="66"/>
                  </a:lnTo>
                  <a:lnTo>
                    <a:pt x="68" y="83"/>
                  </a:lnTo>
                  <a:lnTo>
                    <a:pt x="68" y="416"/>
                  </a:lnTo>
                  <a:lnTo>
                    <a:pt x="67" y="433"/>
                  </a:lnTo>
                  <a:lnTo>
                    <a:pt x="63" y="448"/>
                  </a:lnTo>
                  <a:lnTo>
                    <a:pt x="48" y="475"/>
                  </a:lnTo>
                  <a:lnTo>
                    <a:pt x="38" y="485"/>
                  </a:lnTo>
                  <a:lnTo>
                    <a:pt x="26" y="493"/>
                  </a:lnTo>
                  <a:lnTo>
                    <a:pt x="14" y="498"/>
                  </a:lnTo>
                  <a:lnTo>
                    <a:pt x="0" y="499"/>
                  </a:lnTo>
                  <a:lnTo>
                    <a:pt x="14" y="501"/>
                  </a:lnTo>
                  <a:lnTo>
                    <a:pt x="26" y="506"/>
                  </a:lnTo>
                  <a:lnTo>
                    <a:pt x="38" y="513"/>
                  </a:lnTo>
                  <a:lnTo>
                    <a:pt x="48" y="524"/>
                  </a:lnTo>
                  <a:lnTo>
                    <a:pt x="63" y="550"/>
                  </a:lnTo>
                  <a:lnTo>
                    <a:pt x="67" y="565"/>
                  </a:lnTo>
                  <a:lnTo>
                    <a:pt x="68" y="582"/>
                  </a:lnTo>
                  <a:lnTo>
                    <a:pt x="68" y="915"/>
                  </a:lnTo>
                  <a:lnTo>
                    <a:pt x="70" y="932"/>
                  </a:lnTo>
                  <a:lnTo>
                    <a:pt x="74" y="947"/>
                  </a:lnTo>
                  <a:lnTo>
                    <a:pt x="88" y="974"/>
                  </a:lnTo>
                  <a:lnTo>
                    <a:pt x="98" y="984"/>
                  </a:lnTo>
                  <a:lnTo>
                    <a:pt x="110" y="992"/>
                  </a:lnTo>
                  <a:lnTo>
                    <a:pt x="123" y="997"/>
                  </a:lnTo>
                  <a:lnTo>
                    <a:pt x="136" y="998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orma libre 10"/>
          <p:cNvSpPr/>
          <p:nvPr/>
        </p:nvSpPr>
        <p:spPr>
          <a:xfrm>
            <a:off x="3059280" y="1268280"/>
            <a:ext cx="217440" cy="3600720"/>
          </a:xfrm>
          <a:custGeom>
            <a:avLst/>
            <a:gdLst>
              <a:gd name="textAreaLeft" fmla="*/ 0 w 217440"/>
              <a:gd name="textAreaRight" fmla="*/ 217800 w 217440"/>
              <a:gd name="textAreaTop" fmla="*/ 0 h 3600720"/>
              <a:gd name="textAreaBottom" fmla="*/ 3601080 h 3600720"/>
            </a:gdLst>
            <a:ahLst/>
            <a:rect l="textAreaLeft" t="textAreaTop" r="textAreaRight" b="textAreaBottom"/>
            <a:pathLst>
              <a:path w="137" h="1906">
                <a:moveTo>
                  <a:pt x="136" y="0"/>
                </a:moveTo>
                <a:lnTo>
                  <a:pt x="123" y="3"/>
                </a:lnTo>
                <a:lnTo>
                  <a:pt x="110" y="13"/>
                </a:lnTo>
                <a:lnTo>
                  <a:pt x="98" y="27"/>
                </a:lnTo>
                <a:lnTo>
                  <a:pt x="88" y="47"/>
                </a:lnTo>
                <a:lnTo>
                  <a:pt x="74" y="97"/>
                </a:lnTo>
                <a:lnTo>
                  <a:pt x="69" y="159"/>
                </a:lnTo>
                <a:lnTo>
                  <a:pt x="69" y="794"/>
                </a:lnTo>
                <a:lnTo>
                  <a:pt x="63" y="856"/>
                </a:lnTo>
                <a:lnTo>
                  <a:pt x="49" y="906"/>
                </a:lnTo>
                <a:lnTo>
                  <a:pt x="38" y="926"/>
                </a:lnTo>
                <a:lnTo>
                  <a:pt x="27" y="941"/>
                </a:lnTo>
                <a:lnTo>
                  <a:pt x="14" y="950"/>
                </a:lnTo>
                <a:lnTo>
                  <a:pt x="0" y="953"/>
                </a:lnTo>
                <a:lnTo>
                  <a:pt x="14" y="956"/>
                </a:lnTo>
                <a:lnTo>
                  <a:pt x="27" y="965"/>
                </a:lnTo>
                <a:lnTo>
                  <a:pt x="38" y="980"/>
                </a:lnTo>
                <a:lnTo>
                  <a:pt x="49" y="999"/>
                </a:lnTo>
                <a:lnTo>
                  <a:pt x="63" y="1050"/>
                </a:lnTo>
                <a:lnTo>
                  <a:pt x="69" y="1111"/>
                </a:lnTo>
                <a:lnTo>
                  <a:pt x="69" y="1747"/>
                </a:lnTo>
                <a:lnTo>
                  <a:pt x="74" y="1809"/>
                </a:lnTo>
                <a:lnTo>
                  <a:pt x="88" y="1859"/>
                </a:lnTo>
                <a:lnTo>
                  <a:pt x="98" y="1879"/>
                </a:lnTo>
                <a:lnTo>
                  <a:pt x="110" y="1893"/>
                </a:lnTo>
                <a:lnTo>
                  <a:pt x="123" y="1902"/>
                </a:lnTo>
                <a:lnTo>
                  <a:pt x="136" y="1905"/>
                </a:lnTo>
              </a:path>
            </a:pathLst>
          </a:cu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5010120" y="2938320"/>
            <a:ext cx="4025880" cy="2094120"/>
            <a:chOff x="5010120" y="2938320"/>
            <a:chExt cx="4025880" cy="2094120"/>
          </a:xfrm>
        </p:grpSpPr>
        <p:sp>
          <p:nvSpPr>
            <p:cNvPr id="143" name="Rectángulo 9"/>
            <p:cNvSpPr/>
            <p:nvPr/>
          </p:nvSpPr>
          <p:spPr>
            <a:xfrm>
              <a:off x="5221440" y="3043080"/>
              <a:ext cx="3814560" cy="174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ELOCIDAD DE SÍ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TRANSCRIP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TRADUC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LOCIDAD DE DEGRAD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orma libre 11"/>
            <p:cNvSpPr/>
            <p:nvPr/>
          </p:nvSpPr>
          <p:spPr>
            <a:xfrm>
              <a:off x="5010120" y="2938320"/>
              <a:ext cx="216000" cy="20941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094120"/>
                <a:gd name="textAreaBottom" fmla="*/ 2094120 h 2094120"/>
              </a:gdLst>
              <a:ahLst/>
              <a:rect l="textAreaLeft" t="textAreaTop" r="textAreaRight" b="textAreaBottom"/>
              <a:pathLst>
                <a:path w="137" h="1090">
                  <a:moveTo>
                    <a:pt x="136" y="0"/>
                  </a:moveTo>
                  <a:lnTo>
                    <a:pt x="122" y="2"/>
                  </a:lnTo>
                  <a:lnTo>
                    <a:pt x="110" y="7"/>
                  </a:lnTo>
                  <a:lnTo>
                    <a:pt x="98" y="15"/>
                  </a:lnTo>
                  <a:lnTo>
                    <a:pt x="88" y="27"/>
                  </a:lnTo>
                  <a:lnTo>
                    <a:pt x="73" y="56"/>
                  </a:lnTo>
                  <a:lnTo>
                    <a:pt x="69" y="73"/>
                  </a:lnTo>
                  <a:lnTo>
                    <a:pt x="68" y="91"/>
                  </a:lnTo>
                  <a:lnTo>
                    <a:pt x="68" y="454"/>
                  </a:lnTo>
                  <a:lnTo>
                    <a:pt x="67" y="472"/>
                  </a:lnTo>
                  <a:lnTo>
                    <a:pt x="63" y="489"/>
                  </a:lnTo>
                  <a:lnTo>
                    <a:pt x="48" y="518"/>
                  </a:lnTo>
                  <a:lnTo>
                    <a:pt x="38" y="529"/>
                  </a:lnTo>
                  <a:lnTo>
                    <a:pt x="27" y="538"/>
                  </a:lnTo>
                  <a:lnTo>
                    <a:pt x="14" y="543"/>
                  </a:lnTo>
                  <a:lnTo>
                    <a:pt x="0" y="545"/>
                  </a:lnTo>
                  <a:lnTo>
                    <a:pt x="14" y="546"/>
                  </a:lnTo>
                  <a:lnTo>
                    <a:pt x="27" y="552"/>
                  </a:lnTo>
                  <a:lnTo>
                    <a:pt x="38" y="560"/>
                  </a:lnTo>
                  <a:lnTo>
                    <a:pt x="48" y="571"/>
                  </a:lnTo>
                  <a:lnTo>
                    <a:pt x="63" y="600"/>
                  </a:lnTo>
                  <a:lnTo>
                    <a:pt x="67" y="617"/>
                  </a:lnTo>
                  <a:lnTo>
                    <a:pt x="68" y="635"/>
                  </a:lnTo>
                  <a:lnTo>
                    <a:pt x="68" y="999"/>
                  </a:lnTo>
                  <a:lnTo>
                    <a:pt x="69" y="1017"/>
                  </a:lnTo>
                  <a:lnTo>
                    <a:pt x="73" y="1034"/>
                  </a:lnTo>
                  <a:lnTo>
                    <a:pt x="88" y="1063"/>
                  </a:lnTo>
                  <a:lnTo>
                    <a:pt x="98" y="1074"/>
                  </a:lnTo>
                  <a:lnTo>
                    <a:pt x="110" y="1082"/>
                  </a:lnTo>
                  <a:lnTo>
                    <a:pt x="122" y="1087"/>
                  </a:lnTo>
                  <a:lnTo>
                    <a:pt x="136" y="1089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1 CuadroTexto"/>
          <p:cNvSpPr/>
          <p:nvPr/>
        </p:nvSpPr>
        <p:spPr>
          <a:xfrm>
            <a:off x="3569400" y="20620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Times New Roman"/>
              </a:rPr>
              <a:t>(RÁPI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2"/>
          <p:cNvGrpSpPr/>
          <p:nvPr/>
        </p:nvGrpSpPr>
        <p:grpSpPr>
          <a:xfrm>
            <a:off x="4211640" y="4997520"/>
            <a:ext cx="4464000" cy="1585800"/>
            <a:chOff x="4211640" y="4997520"/>
            <a:chExt cx="4464000" cy="1585800"/>
          </a:xfrm>
        </p:grpSpPr>
        <p:sp>
          <p:nvSpPr>
            <p:cNvPr id="147" name="Rectángulo 12"/>
            <p:cNvSpPr/>
            <p:nvPr/>
          </p:nvSpPr>
          <p:spPr>
            <a:xfrm>
              <a:off x="4505400" y="5157720"/>
              <a:ext cx="150660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ángulo 13"/>
            <p:cNvSpPr/>
            <p:nvPr/>
          </p:nvSpPr>
          <p:spPr>
            <a:xfrm>
              <a:off x="4460760" y="6127920"/>
              <a:ext cx="212724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orma libre 14"/>
            <p:cNvSpPr/>
            <p:nvPr/>
          </p:nvSpPr>
          <p:spPr>
            <a:xfrm>
              <a:off x="4211640" y="4997520"/>
              <a:ext cx="299880" cy="15858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227" h="999">
                  <a:moveTo>
                    <a:pt x="226" y="0"/>
                  </a:moveTo>
                  <a:lnTo>
                    <a:pt x="204" y="2"/>
                  </a:lnTo>
                  <a:lnTo>
                    <a:pt x="182" y="6"/>
                  </a:lnTo>
                  <a:lnTo>
                    <a:pt x="163" y="14"/>
                  </a:lnTo>
                  <a:lnTo>
                    <a:pt x="146" y="24"/>
                  </a:lnTo>
                  <a:lnTo>
                    <a:pt x="133" y="37"/>
                  </a:lnTo>
                  <a:lnTo>
                    <a:pt x="122" y="51"/>
                  </a:lnTo>
                  <a:lnTo>
                    <a:pt x="116" y="67"/>
                  </a:lnTo>
                  <a:lnTo>
                    <a:pt x="113" y="84"/>
                  </a:lnTo>
                  <a:lnTo>
                    <a:pt x="113" y="416"/>
                  </a:lnTo>
                  <a:lnTo>
                    <a:pt x="111" y="433"/>
                  </a:lnTo>
                  <a:lnTo>
                    <a:pt x="105" y="448"/>
                  </a:lnTo>
                  <a:lnTo>
                    <a:pt x="94" y="462"/>
                  </a:lnTo>
                  <a:lnTo>
                    <a:pt x="80" y="475"/>
                  </a:lnTo>
                  <a:lnTo>
                    <a:pt x="63" y="485"/>
                  </a:lnTo>
                  <a:lnTo>
                    <a:pt x="44" y="493"/>
                  </a:lnTo>
                  <a:lnTo>
                    <a:pt x="23" y="497"/>
                  </a:lnTo>
                  <a:lnTo>
                    <a:pt x="0" y="499"/>
                  </a:lnTo>
                  <a:lnTo>
                    <a:pt x="23" y="501"/>
                  </a:lnTo>
                  <a:lnTo>
                    <a:pt x="44" y="505"/>
                  </a:lnTo>
                  <a:lnTo>
                    <a:pt x="63" y="513"/>
                  </a:lnTo>
                  <a:lnTo>
                    <a:pt x="80" y="523"/>
                  </a:lnTo>
                  <a:lnTo>
                    <a:pt x="94" y="536"/>
                  </a:lnTo>
                  <a:lnTo>
                    <a:pt x="105" y="550"/>
                  </a:lnTo>
                  <a:lnTo>
                    <a:pt x="111" y="566"/>
                  </a:lnTo>
                  <a:lnTo>
                    <a:pt x="113" y="583"/>
                  </a:lnTo>
                  <a:lnTo>
                    <a:pt x="113" y="915"/>
                  </a:lnTo>
                  <a:lnTo>
                    <a:pt x="116" y="932"/>
                  </a:lnTo>
                  <a:lnTo>
                    <a:pt x="122" y="947"/>
                  </a:lnTo>
                  <a:lnTo>
                    <a:pt x="133" y="961"/>
                  </a:lnTo>
                  <a:lnTo>
                    <a:pt x="146" y="974"/>
                  </a:lnTo>
                  <a:lnTo>
                    <a:pt x="163" y="984"/>
                  </a:lnTo>
                  <a:lnTo>
                    <a:pt x="182" y="992"/>
                  </a:lnTo>
                  <a:lnTo>
                    <a:pt x="204" y="996"/>
                  </a:lnTo>
                  <a:lnTo>
                    <a:pt x="226" y="998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ángulo 12"/>
            <p:cNvSpPr/>
            <p:nvPr/>
          </p:nvSpPr>
          <p:spPr>
            <a:xfrm>
              <a:off x="4500720" y="5624640"/>
              <a:ext cx="201132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PEROXISO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ángulo 12"/>
            <p:cNvSpPr/>
            <p:nvPr/>
          </p:nvSpPr>
          <p:spPr>
            <a:xfrm>
              <a:off x="6659640" y="5157720"/>
              <a:ext cx="2016000" cy="702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RETIC. ENDOPLAS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ángulo 12"/>
            <p:cNvSpPr/>
            <p:nvPr/>
          </p:nvSpPr>
          <p:spPr>
            <a:xfrm>
              <a:off x="6810480" y="6056280"/>
              <a:ext cx="172224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LISOSO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CuadroTexto"/>
          <p:cNvSpPr/>
          <p:nvPr/>
        </p:nvSpPr>
        <p:spPr>
          <a:xfrm>
            <a:off x="468360" y="765000"/>
            <a:ext cx="8351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 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«El ATP es la unidad bioló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universal de energía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Se genera por oxidación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                        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combustibles metabólicos.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Century Gothic"/>
              </a:rPr>
              <a:t>El gran potencial para transferir enlaces fosfato de alta energía capacita al ATP para ser utilizado en distintos tipos de trabajo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Contracción 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Transporte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Amplificacion de señ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Bi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7_atp_2"/>
          <p:cNvPicPr/>
          <p:nvPr/>
        </p:nvPicPr>
        <p:blipFill>
          <a:blip r:embed="rId1"/>
          <a:stretch/>
        </p:blipFill>
        <p:spPr>
          <a:xfrm>
            <a:off x="611280" y="69228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TP02a"/>
          <p:cNvPicPr/>
          <p:nvPr/>
        </p:nvPicPr>
        <p:blipFill>
          <a:blip r:embed="rId2"/>
          <a:srcRect l="0" t="8623" r="9266" b="16175"/>
          <a:stretch/>
        </p:blipFill>
        <p:spPr>
          <a:xfrm>
            <a:off x="4427640" y="2509920"/>
            <a:ext cx="3744720" cy="1639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2124000" y="83664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9" descr="&#10;F16-01.JPG                                                     00014CF9&#13;ECONOMICS 2.0                  B088F83F:"/>
          <p:cNvPicPr/>
          <p:nvPr/>
        </p:nvPicPr>
        <p:blipFill>
          <a:blip r:embed="rId1"/>
          <a:stretch/>
        </p:blipFill>
        <p:spPr>
          <a:xfrm>
            <a:off x="900000" y="115920"/>
            <a:ext cx="3743280" cy="6481800"/>
          </a:xfrm>
          <a:prstGeom prst="rect">
            <a:avLst/>
          </a:prstGeom>
          <a:ln w="0">
            <a:noFill/>
          </a:ln>
        </p:spPr>
      </p:pic>
      <p:sp>
        <p:nvSpPr>
          <p:cNvPr id="160" name="6 CuadroTexto"/>
          <p:cNvSpPr/>
          <p:nvPr/>
        </p:nvSpPr>
        <p:spPr>
          <a:xfrm>
            <a:off x="5003640" y="593640"/>
            <a:ext cx="3511800" cy="37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Arial Rounded MT Bold"/>
              </a:rPr>
              <a:t>NADH Y FADH</a:t>
            </a:r>
            <a:r>
              <a:rPr b="1" lang="es-MX" sz="1800" spc="-1" strike="noStrike" u="sng" baseline="-25000">
                <a:solidFill>
                  <a:srgbClr val="cc0000"/>
                </a:solidFill>
                <a:uFillTx/>
                <a:latin typeface="Arial Rounded MT Bold"/>
              </a:rPr>
              <a:t>2 </a:t>
            </a:r>
            <a:r>
              <a:rPr b="1" lang="es-MX" sz="1800" spc="-1" strike="noStrike">
                <a:solidFill>
                  <a:srgbClr val="cc0000"/>
                </a:solidFill>
                <a:latin typeface="Arial Rounded MT Bold"/>
              </a:rPr>
              <a:t>transfieren su poder reductor a la cadena respiratoria, para finalmente dar ATP por fosforilación oxid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El CICLO DE KREBS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 Rounded MT Bold"/>
              </a:rPr>
              <a:t>    </a:t>
            </a:r>
            <a:r>
              <a:rPr b="1" lang="el-GR" sz="1800" spc="-1" strike="noStrike">
                <a:solidFill>
                  <a:srgbClr val="990099"/>
                </a:solidFill>
                <a:latin typeface="Arial Rounded MT Bold"/>
              </a:rPr>
              <a:t>β</a:t>
            </a:r>
            <a:r>
              <a:rPr b="1" lang="en-US" sz="1800" spc="-1" strike="noStrike">
                <a:solidFill>
                  <a:srgbClr val="990099"/>
                </a:solidFill>
                <a:latin typeface="Arial Rounded MT Bold"/>
              </a:rPr>
              <a:t>-OXIDACION</a:t>
            </a: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 de Acs. Grasos suministran NADH y FADH</a:t>
            </a:r>
            <a:r>
              <a:rPr b="1" lang="es-MX" sz="1800" spc="-1" strike="noStrike" baseline="-25000">
                <a:solidFill>
                  <a:srgbClr val="990099"/>
                </a:solidFill>
                <a:latin typeface="Arial Rounded MT Bold"/>
              </a:rPr>
              <a:t>2</a:t>
            </a: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.</a:t>
            </a: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6200000">
            <a:off x="-2505600" y="3302640"/>
            <a:ext cx="60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lujo del Poder Reductor para la síntesis d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8920" y="693360"/>
            <a:ext cx="85341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apel regulador del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ángulo 3"/>
          <p:cNvSpPr/>
          <p:nvPr/>
        </p:nvSpPr>
        <p:spPr>
          <a:xfrm>
            <a:off x="360360" y="1341360"/>
            <a:ext cx="1575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ángulo 4"/>
          <p:cNvSpPr/>
          <p:nvPr/>
        </p:nvSpPr>
        <p:spPr>
          <a:xfrm>
            <a:off x="2494440" y="1341360"/>
            <a:ext cx="11008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ángulo 5"/>
          <p:cNvSpPr/>
          <p:nvPr/>
        </p:nvSpPr>
        <p:spPr>
          <a:xfrm>
            <a:off x="4246560" y="1341360"/>
            <a:ext cx="14223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ángulo 6"/>
          <p:cNvSpPr/>
          <p:nvPr/>
        </p:nvSpPr>
        <p:spPr>
          <a:xfrm>
            <a:off x="6380280" y="1341360"/>
            <a:ext cx="23796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ángulo 7"/>
          <p:cNvSpPr/>
          <p:nvPr/>
        </p:nvSpPr>
        <p:spPr>
          <a:xfrm>
            <a:off x="287280" y="2562120"/>
            <a:ext cx="182556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ángulo 9"/>
          <p:cNvSpPr/>
          <p:nvPr/>
        </p:nvSpPr>
        <p:spPr>
          <a:xfrm>
            <a:off x="4356000" y="2527200"/>
            <a:ext cx="182556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10"/>
          <p:cNvSpPr/>
          <p:nvPr/>
        </p:nvSpPr>
        <p:spPr>
          <a:xfrm>
            <a:off x="6629400" y="2422440"/>
            <a:ext cx="1616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ángulo 11"/>
          <p:cNvSpPr/>
          <p:nvPr/>
        </p:nvSpPr>
        <p:spPr>
          <a:xfrm>
            <a:off x="3100320" y="3943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ángulo 12"/>
          <p:cNvSpPr/>
          <p:nvPr/>
        </p:nvSpPr>
        <p:spPr>
          <a:xfrm>
            <a:off x="3360960" y="5767560"/>
            <a:ext cx="759600" cy="458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ángulo 13"/>
          <p:cNvSpPr/>
          <p:nvPr/>
        </p:nvSpPr>
        <p:spPr>
          <a:xfrm>
            <a:off x="5242680" y="3322800"/>
            <a:ext cx="595080" cy="40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ínea 14"/>
          <p:cNvSpPr/>
          <p:nvPr/>
        </p:nvSpPr>
        <p:spPr>
          <a:xfrm>
            <a:off x="1042920" y="188280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ínea 15"/>
          <p:cNvSpPr/>
          <p:nvPr/>
        </p:nvSpPr>
        <p:spPr>
          <a:xfrm flipV="1">
            <a:off x="1203480" y="1874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ínea 16"/>
          <p:cNvSpPr/>
          <p:nvPr/>
        </p:nvSpPr>
        <p:spPr>
          <a:xfrm>
            <a:off x="303228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ínea 17"/>
          <p:cNvSpPr/>
          <p:nvPr/>
        </p:nvSpPr>
        <p:spPr>
          <a:xfrm flipV="1">
            <a:off x="3184560" y="186840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ínea 18"/>
          <p:cNvSpPr/>
          <p:nvPr/>
        </p:nvSpPr>
        <p:spPr>
          <a:xfrm>
            <a:off x="486108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ínea 19"/>
          <p:cNvSpPr/>
          <p:nvPr/>
        </p:nvSpPr>
        <p:spPr>
          <a:xfrm flipV="1">
            <a:off x="5013360" y="179856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ínea 20"/>
          <p:cNvSpPr/>
          <p:nvPr/>
        </p:nvSpPr>
        <p:spPr>
          <a:xfrm>
            <a:off x="729936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ínea 21"/>
          <p:cNvSpPr/>
          <p:nvPr/>
        </p:nvSpPr>
        <p:spPr>
          <a:xfrm flipV="1">
            <a:off x="7451640" y="179856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ínea 22"/>
          <p:cNvSpPr/>
          <p:nvPr/>
        </p:nvSpPr>
        <p:spPr>
          <a:xfrm>
            <a:off x="2027160" y="3038400"/>
            <a:ext cx="1005120" cy="78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ínea 23"/>
          <p:cNvSpPr/>
          <p:nvPr/>
        </p:nvSpPr>
        <p:spPr>
          <a:xfrm>
            <a:off x="3708360" y="3068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ínea 24"/>
          <p:cNvSpPr/>
          <p:nvPr/>
        </p:nvSpPr>
        <p:spPr>
          <a:xfrm flipH="1">
            <a:off x="4479840" y="30178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ínea 25"/>
          <p:cNvSpPr/>
          <p:nvPr/>
        </p:nvSpPr>
        <p:spPr>
          <a:xfrm>
            <a:off x="4014720" y="48578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ipse 26"/>
          <p:cNvSpPr/>
          <p:nvPr/>
        </p:nvSpPr>
        <p:spPr>
          <a:xfrm>
            <a:off x="2627280" y="4141800"/>
            <a:ext cx="221940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forma 27"/>
          <p:cNvSpPr/>
          <p:nvPr/>
        </p:nvSpPr>
        <p:spPr>
          <a:xfrm>
            <a:off x="3618000" y="5340240"/>
            <a:ext cx="237960" cy="390600"/>
          </a:xfrm>
          <a:prstGeom prst="downArrow">
            <a:avLst>
              <a:gd name="adj1" fmla="val 50000"/>
              <a:gd name="adj2" fmla="val 4105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rma libre 28"/>
          <p:cNvSpPr/>
          <p:nvPr/>
        </p:nvSpPr>
        <p:spPr>
          <a:xfrm>
            <a:off x="4794120" y="3241800"/>
            <a:ext cx="331920" cy="3157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09" h="199">
                <a:moveTo>
                  <a:pt x="31" y="0"/>
                </a:moveTo>
                <a:lnTo>
                  <a:pt x="18" y="26"/>
                </a:lnTo>
                <a:lnTo>
                  <a:pt x="8" y="51"/>
                </a:lnTo>
                <a:lnTo>
                  <a:pt x="2" y="76"/>
                </a:lnTo>
                <a:lnTo>
                  <a:pt x="0" y="100"/>
                </a:lnTo>
                <a:lnTo>
                  <a:pt x="2" y="121"/>
                </a:lnTo>
                <a:lnTo>
                  <a:pt x="7" y="140"/>
                </a:lnTo>
                <a:lnTo>
                  <a:pt x="16" y="155"/>
                </a:lnTo>
                <a:lnTo>
                  <a:pt x="29" y="166"/>
                </a:lnTo>
                <a:lnTo>
                  <a:pt x="70" y="191"/>
                </a:lnTo>
                <a:lnTo>
                  <a:pt x="83" y="196"/>
                </a:lnTo>
                <a:lnTo>
                  <a:pt x="96" y="198"/>
                </a:lnTo>
                <a:lnTo>
                  <a:pt x="111" y="197"/>
                </a:lnTo>
                <a:lnTo>
                  <a:pt x="126" y="193"/>
                </a:lnTo>
                <a:lnTo>
                  <a:pt x="141" y="187"/>
                </a:lnTo>
                <a:lnTo>
                  <a:pt x="157" y="177"/>
                </a:lnTo>
                <a:lnTo>
                  <a:pt x="173" y="165"/>
                </a:lnTo>
                <a:lnTo>
                  <a:pt x="188" y="150"/>
                </a:lnTo>
                <a:lnTo>
                  <a:pt x="208" y="162"/>
                </a:lnTo>
                <a:lnTo>
                  <a:pt x="196" y="99"/>
                </a:lnTo>
                <a:lnTo>
                  <a:pt x="126" y="113"/>
                </a:lnTo>
                <a:lnTo>
                  <a:pt x="147" y="125"/>
                </a:lnTo>
                <a:lnTo>
                  <a:pt x="123" y="146"/>
                </a:lnTo>
                <a:lnTo>
                  <a:pt x="111" y="155"/>
                </a:lnTo>
                <a:lnTo>
                  <a:pt x="99" y="162"/>
                </a:lnTo>
                <a:lnTo>
                  <a:pt x="87" y="168"/>
                </a:lnTo>
                <a:lnTo>
                  <a:pt x="76" y="171"/>
                </a:lnTo>
                <a:lnTo>
                  <a:pt x="64" y="173"/>
                </a:lnTo>
                <a:lnTo>
                  <a:pt x="53" y="174"/>
                </a:lnTo>
                <a:lnTo>
                  <a:pt x="46" y="160"/>
                </a:lnTo>
                <a:lnTo>
                  <a:pt x="42" y="144"/>
                </a:lnTo>
                <a:lnTo>
                  <a:pt x="41" y="126"/>
                </a:lnTo>
                <a:lnTo>
                  <a:pt x="43" y="107"/>
                </a:lnTo>
                <a:lnTo>
                  <a:pt x="46" y="87"/>
                </a:lnTo>
                <a:lnTo>
                  <a:pt x="53" y="66"/>
                </a:lnTo>
                <a:lnTo>
                  <a:pt x="62" y="45"/>
                </a:lnTo>
                <a:lnTo>
                  <a:pt x="73" y="2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ipse 29"/>
          <p:cNvSpPr/>
          <p:nvPr/>
        </p:nvSpPr>
        <p:spPr>
          <a:xfrm>
            <a:off x="5996160" y="3699000"/>
            <a:ext cx="1590480" cy="11746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iclo U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ínea 30"/>
          <p:cNvSpPr/>
          <p:nvPr/>
        </p:nvSpPr>
        <p:spPr>
          <a:xfrm>
            <a:off x="5772240" y="37036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ángulo 8"/>
          <p:cNvSpPr/>
          <p:nvPr/>
        </p:nvSpPr>
        <p:spPr>
          <a:xfrm>
            <a:off x="2195640" y="2538360"/>
            <a:ext cx="207144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ángulo 8"/>
          <p:cNvSpPr/>
          <p:nvPr/>
        </p:nvSpPr>
        <p:spPr>
          <a:xfrm>
            <a:off x="2954160" y="3876840"/>
            <a:ext cx="160848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rma libre 31"/>
          <p:cNvSpPr/>
          <p:nvPr/>
        </p:nvSpPr>
        <p:spPr>
          <a:xfrm>
            <a:off x="5003640" y="5157720"/>
            <a:ext cx="360360" cy="1370160"/>
          </a:xfrm>
          <a:custGeom>
            <a:avLst/>
            <a:gdLst>
              <a:gd name="textAreaLeft" fmla="*/ 0 w 360360"/>
              <a:gd name="textAreaRight" fmla="*/ 360720 w 3603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241" h="673">
                <a:moveTo>
                  <a:pt x="240" y="0"/>
                </a:moveTo>
                <a:lnTo>
                  <a:pt x="216" y="1"/>
                </a:lnTo>
                <a:lnTo>
                  <a:pt x="194" y="4"/>
                </a:lnTo>
                <a:lnTo>
                  <a:pt x="173" y="10"/>
                </a:lnTo>
                <a:lnTo>
                  <a:pt x="155" y="16"/>
                </a:lnTo>
                <a:lnTo>
                  <a:pt x="141" y="25"/>
                </a:lnTo>
                <a:lnTo>
                  <a:pt x="130" y="34"/>
                </a:lnTo>
                <a:lnTo>
                  <a:pt x="123" y="45"/>
                </a:lnTo>
                <a:lnTo>
                  <a:pt x="120" y="56"/>
                </a:lnTo>
                <a:lnTo>
                  <a:pt x="120" y="280"/>
                </a:lnTo>
                <a:lnTo>
                  <a:pt x="118" y="291"/>
                </a:lnTo>
                <a:lnTo>
                  <a:pt x="111" y="302"/>
                </a:lnTo>
                <a:lnTo>
                  <a:pt x="100" y="311"/>
                </a:lnTo>
                <a:lnTo>
                  <a:pt x="85" y="320"/>
                </a:lnTo>
                <a:lnTo>
                  <a:pt x="67" y="327"/>
                </a:lnTo>
                <a:lnTo>
                  <a:pt x="47" y="332"/>
                </a:lnTo>
                <a:lnTo>
                  <a:pt x="24" y="335"/>
                </a:lnTo>
                <a:lnTo>
                  <a:pt x="0" y="336"/>
                </a:lnTo>
                <a:lnTo>
                  <a:pt x="24" y="337"/>
                </a:lnTo>
                <a:lnTo>
                  <a:pt x="47" y="340"/>
                </a:lnTo>
                <a:lnTo>
                  <a:pt x="67" y="346"/>
                </a:lnTo>
                <a:lnTo>
                  <a:pt x="85" y="352"/>
                </a:lnTo>
                <a:lnTo>
                  <a:pt x="100" y="361"/>
                </a:lnTo>
                <a:lnTo>
                  <a:pt x="111" y="370"/>
                </a:lnTo>
                <a:lnTo>
                  <a:pt x="118" y="381"/>
                </a:lnTo>
                <a:lnTo>
                  <a:pt x="120" y="392"/>
                </a:lnTo>
                <a:lnTo>
                  <a:pt x="120" y="616"/>
                </a:lnTo>
                <a:lnTo>
                  <a:pt x="123" y="627"/>
                </a:lnTo>
                <a:lnTo>
                  <a:pt x="130" y="638"/>
                </a:lnTo>
                <a:lnTo>
                  <a:pt x="141" y="647"/>
                </a:lnTo>
                <a:lnTo>
                  <a:pt x="155" y="656"/>
                </a:lnTo>
                <a:lnTo>
                  <a:pt x="173" y="663"/>
                </a:lnTo>
                <a:lnTo>
                  <a:pt x="194" y="668"/>
                </a:lnTo>
                <a:lnTo>
                  <a:pt x="216" y="671"/>
                </a:lnTo>
                <a:lnTo>
                  <a:pt x="240" y="672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ángulo 34"/>
          <p:cNvSpPr/>
          <p:nvPr/>
        </p:nvSpPr>
        <p:spPr>
          <a:xfrm>
            <a:off x="5796000" y="5838840"/>
            <a:ext cx="2438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Vías que consumen energía (Bio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ángulo 35"/>
          <p:cNvSpPr/>
          <p:nvPr/>
        </p:nvSpPr>
        <p:spPr>
          <a:xfrm>
            <a:off x="5772240" y="5130720"/>
            <a:ext cx="2895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Procesos generadores de energía (Degra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5173560" y="578160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5185800" y="510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1804320" y="317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3055320" y="303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4050720" y="29383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6617520" y="1752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5003640" y="171936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3171960" y="177336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1187280" y="184644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351720" y="179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368080" y="177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2009160" y="4383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2 CuadroTexto"/>
          <p:cNvSpPr/>
          <p:nvPr/>
        </p:nvSpPr>
        <p:spPr>
          <a:xfrm>
            <a:off x="266760" y="549360"/>
            <a:ext cx="8626320" cy="61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Century Gothic"/>
              </a:rPr>
              <a:t>- Las macromoléculas se construyen a partir de una serie relativamente pequeña de precur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s-MX" sz="2000" spc="-1" strike="noStrike">
                <a:solidFill>
                  <a:srgbClr val="cc0099"/>
                </a:solidFill>
                <a:latin typeface="Century Gothic"/>
              </a:rPr>
              <a:t>Las vías metabólicas que generan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ATP y NADPH </a:t>
            </a:r>
            <a:r>
              <a:rPr b="1" lang="es-MX" sz="2000" spc="-1" strike="noStrike">
                <a:solidFill>
                  <a:srgbClr val="cc0099"/>
                </a:solidFill>
                <a:latin typeface="Century Gothic"/>
              </a:rPr>
              <a:t>producen también precursores para la biosíntesis de moléculas mas complej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Glicólisis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DHAP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Glicerol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T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Ciclo de Krebs </a:t>
            </a:r>
            <a:r>
              <a:rPr b="1" lang="es-MX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 Succinil.Coa </a:t>
            </a:r>
            <a:r>
              <a:rPr b="1" lang="es-MX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 Porfirinas (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Vía de las Pentosas </a:t>
            </a:r>
            <a:r>
              <a:rPr b="1" lang="es-MX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ff505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Rib-5-P + NADPH </a:t>
            </a:r>
            <a:r>
              <a:rPr b="1" lang="es-MX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 Nucleó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1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843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2 CuadroTexto"/>
          <p:cNvSpPr/>
          <p:nvPr/>
        </p:nvSpPr>
        <p:spPr>
          <a:xfrm>
            <a:off x="324000" y="1063800"/>
            <a:ext cx="85690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Las vias biosintéticas y degradativas son casi siempre diferentes  y en general ocurren en compartimentos celulares diferentes.</a:t>
            </a: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Esto posibilita que ambos mecanismos sean termodinámicamente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a biosíntesis se hace energéticamente favorable cuando se acopla la hidrólisis de A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fi12p11"/>
          <p:cNvPicPr/>
          <p:nvPr/>
        </p:nvPicPr>
        <p:blipFill>
          <a:blip r:embed="rId1"/>
          <a:srcRect l="0" t="0" r="0" b="12539"/>
          <a:stretch/>
        </p:blipFill>
        <p:spPr>
          <a:xfrm>
            <a:off x="1452600" y="112680"/>
            <a:ext cx="7296120" cy="6556320"/>
          </a:xfrm>
          <a:prstGeom prst="rect">
            <a:avLst/>
          </a:prstGeom>
          <a:ln w="0">
            <a:noFill/>
          </a:ln>
        </p:spPr>
      </p:pic>
      <p:sp>
        <p:nvSpPr>
          <p:cNvPr id="214" name="Rectángulo 2"/>
          <p:cNvSpPr/>
          <p:nvPr/>
        </p:nvSpPr>
        <p:spPr>
          <a:xfrm rot="16200000">
            <a:off x="-2628720" y="3060720"/>
            <a:ext cx="6329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mpartimentalización del metabol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435640" y="108000"/>
            <a:ext cx="3637080" cy="10051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licólisis , Algs. reacciones de la Gluconeogenesis, Vía de las pentosas fosfato, Síntesis de ácidos grasos, Activación de Aminoácidos, Síntesis de nucleót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724800" y="1214280"/>
            <a:ext cx="2133360" cy="64008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Gránulos de Gluc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íntesis y Degradación de Gluc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969240" y="2685960"/>
            <a:ext cx="2031840" cy="1370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clo del ácido cí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oxidación de los ácidos gra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rmación de cuerpos cetó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4280" y="4714920"/>
            <a:ext cx="2143440" cy="1552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Microsomas, Peroxisomas, Glioxis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xidación de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de Catalasa y peroxida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clo del glioxil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n 2" descr=""/>
          <p:cNvPicPr/>
          <p:nvPr/>
        </p:nvPicPr>
        <p:blipFill>
          <a:blip r:embed="rId1"/>
          <a:stretch/>
        </p:blipFill>
        <p:spPr>
          <a:xfrm>
            <a:off x="1260360" y="476280"/>
            <a:ext cx="763272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Oval 4"/>
          <p:cNvSpPr/>
          <p:nvPr/>
        </p:nvSpPr>
        <p:spPr>
          <a:xfrm>
            <a:off x="2195640" y="1052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195640" y="162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4211640" y="249228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3480" y="43513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76240" y="43513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59720" y="56340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METABOL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2003040" y="2492280"/>
            <a:ext cx="4097880" cy="4206960"/>
            <a:chOff x="2003040" y="2492280"/>
            <a:chExt cx="4097880" cy="4206960"/>
          </a:xfrm>
        </p:grpSpPr>
        <p:sp>
          <p:nvSpPr>
            <p:cNvPr id="54" name="Text Box 6"/>
            <p:cNvSpPr/>
            <p:nvPr/>
          </p:nvSpPr>
          <p:spPr>
            <a:xfrm>
              <a:off x="2995560" y="2492280"/>
              <a:ext cx="31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3262320" y="587520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4232880" y="407520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6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es-ES" sz="3600" spc="-1" strike="noStrike">
                  <a:solidFill>
                    <a:srgbClr val="ff66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9"/>
            <p:cNvSpPr/>
            <p:nvPr/>
          </p:nvSpPr>
          <p:spPr>
            <a:xfrm rot="21360000">
              <a:off x="2139840" y="2707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 rot="16200000">
              <a:off x="1504440" y="421092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2862000" y="4292640"/>
              <a:ext cx="1295640" cy="287280"/>
            </a:xfrm>
            <a:custGeom>
              <a:avLst/>
              <a:gdLst>
                <a:gd name="textAreaLeft" fmla="*/ 201600 w 1295640"/>
                <a:gd name="textAreaRight" fmla="*/ 1134000 w 1295640"/>
                <a:gd name="textAreaTop" fmla="*/ 71280 h 287280"/>
                <a:gd name="textAreaBottom" fmla="*/ 216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5167440" y="2274840"/>
            <a:ext cx="1940760" cy="3959280"/>
            <a:chOff x="5167440" y="2274840"/>
            <a:chExt cx="1940760" cy="3959280"/>
          </a:xfrm>
        </p:grpSpPr>
        <p:sp>
          <p:nvSpPr>
            <p:cNvPr id="61" name="AutoShape 13"/>
            <p:cNvSpPr/>
            <p:nvPr/>
          </p:nvSpPr>
          <p:spPr>
            <a:xfrm rot="10800000">
              <a:off x="6102000" y="2274840"/>
              <a:ext cx="1006200" cy="3959280"/>
            </a:xfrm>
            <a:custGeom>
              <a:avLst/>
              <a:gdLst>
                <a:gd name="textAreaLeft" fmla="*/ 134640 w 1006200"/>
                <a:gd name="textAreaRight" fmla="*/ 871560 w 1006200"/>
                <a:gd name="textAreaTop" fmla="*/ 802080 h 3959280"/>
                <a:gd name="textAreaBottom" fmla="*/ 2718000 h 39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 rot="16200000">
              <a:off x="6098760" y="439956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5167440" y="4288320"/>
              <a:ext cx="1293480" cy="286920"/>
            </a:xfrm>
            <a:custGeom>
              <a:avLst/>
              <a:gdLst>
                <a:gd name="textAreaLeft" fmla="*/ 201240 w 1293480"/>
                <a:gd name="textAreaRight" fmla="*/ 1131840 w 1293480"/>
                <a:gd name="textAreaTop" fmla="*/ 71280 h 286920"/>
                <a:gd name="textAreaBottom" fmla="*/ 215640 h 2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6"/>
          <p:cNvSpPr/>
          <p:nvPr/>
        </p:nvSpPr>
        <p:spPr>
          <a:xfrm>
            <a:off x="1518480" y="1085760"/>
            <a:ext cx="62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La estrategia básica del metabolismo es obte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1- Energía y poder reductor de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2- Precursores para la biosíntesis de macromolé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260000"/>
            <a:ext cx="776916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rucijada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24000" y="2349000"/>
            <a:ext cx="4967280" cy="302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GLUCOSA-6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2"/>
          <p:cNvSpPr/>
          <p:nvPr/>
        </p:nvSpPr>
        <p:spPr>
          <a:xfrm>
            <a:off x="530280" y="798480"/>
            <a:ext cx="8074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s de metabólicos de la Glucosa-6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o 3"/>
          <p:cNvGrpSpPr/>
          <p:nvPr/>
        </p:nvGrpSpPr>
        <p:grpSpPr>
          <a:xfrm>
            <a:off x="422280" y="2205000"/>
            <a:ext cx="8289720" cy="2743200"/>
            <a:chOff x="422280" y="2205000"/>
            <a:chExt cx="8289720" cy="2743200"/>
          </a:xfrm>
        </p:grpSpPr>
        <p:grpSp>
          <p:nvGrpSpPr>
            <p:cNvPr id="230" name="Group 4"/>
            <p:cNvGrpSpPr/>
            <p:nvPr/>
          </p:nvGrpSpPr>
          <p:grpSpPr>
            <a:xfrm>
              <a:off x="422280" y="2205000"/>
              <a:ext cx="8289720" cy="2743200"/>
              <a:chOff x="422280" y="2205000"/>
              <a:chExt cx="8289720" cy="2743200"/>
            </a:xfrm>
          </p:grpSpPr>
          <p:sp>
            <p:nvSpPr>
              <p:cNvPr id="231" name="Rectángulo 4"/>
              <p:cNvSpPr/>
              <p:nvPr/>
            </p:nvSpPr>
            <p:spPr>
              <a:xfrm>
                <a:off x="3591000" y="3068640"/>
                <a:ext cx="3033720" cy="397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GLUCOSA-6-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ángulo 5"/>
              <p:cNvSpPr/>
              <p:nvPr/>
            </p:nvSpPr>
            <p:spPr>
              <a:xfrm>
                <a:off x="1503360" y="2205000"/>
                <a:ext cx="2601720" cy="3668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NEOGEN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ángulo 6"/>
              <p:cNvSpPr/>
              <p:nvPr/>
            </p:nvSpPr>
            <p:spPr>
              <a:xfrm>
                <a:off x="6038640" y="2276280"/>
                <a:ext cx="2386080" cy="3668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GENOLI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ángulo 7"/>
              <p:cNvSpPr/>
              <p:nvPr/>
            </p:nvSpPr>
            <p:spPr>
              <a:xfrm>
                <a:off x="1420920" y="3933720"/>
                <a:ext cx="281772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GENOGEN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ángulo 8"/>
              <p:cNvSpPr/>
              <p:nvPr/>
            </p:nvSpPr>
            <p:spPr>
              <a:xfrm>
                <a:off x="422280" y="2923920"/>
                <a:ext cx="1738080" cy="78408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GLUCOS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ANGUIN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ángulo 9"/>
              <p:cNvSpPr/>
              <p:nvPr/>
            </p:nvSpPr>
            <p:spPr>
              <a:xfrm>
                <a:off x="5823000" y="3860640"/>
                <a:ext cx="288900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VIA DE LAS PENTOS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orma libre 10"/>
              <p:cNvSpPr/>
              <p:nvPr/>
            </p:nvSpPr>
            <p:spPr>
              <a:xfrm>
                <a:off x="4387680" y="4010040"/>
                <a:ext cx="1297080" cy="504720"/>
              </a:xfrm>
              <a:custGeom>
                <a:avLst/>
                <a:gdLst>
                  <a:gd name="textAreaLeft" fmla="*/ 0 w 1297080"/>
                  <a:gd name="textAreaRight" fmla="*/ 1297440 w 1297080"/>
                  <a:gd name="textAreaTop" fmla="*/ 0 h 504720"/>
                  <a:gd name="textAreaBottom" fmla="*/ 504720 h 504720"/>
                </a:gdLst>
                <a:ahLst/>
                <a:rect l="textAreaLeft" t="textAreaTop" r="textAreaRight" b="textAreaBottom"/>
                <a:pathLst>
                  <a:path w="817" h="318">
                    <a:moveTo>
                      <a:pt x="408" y="317"/>
                    </a:moveTo>
                    <a:lnTo>
                      <a:pt x="523" y="227"/>
                    </a:lnTo>
                    <a:lnTo>
                      <a:pt x="449" y="227"/>
                    </a:lnTo>
                    <a:lnTo>
                      <a:pt x="449" y="95"/>
                    </a:lnTo>
                    <a:lnTo>
                      <a:pt x="668" y="95"/>
                    </a:lnTo>
                    <a:lnTo>
                      <a:pt x="668" y="139"/>
                    </a:lnTo>
                    <a:lnTo>
                      <a:pt x="816" y="70"/>
                    </a:lnTo>
                    <a:lnTo>
                      <a:pt x="668" y="0"/>
                    </a:lnTo>
                    <a:lnTo>
                      <a:pt x="668" y="45"/>
                    </a:lnTo>
                    <a:lnTo>
                      <a:pt x="148" y="45"/>
                    </a:lnTo>
                    <a:lnTo>
                      <a:pt x="148" y="0"/>
                    </a:lnTo>
                    <a:lnTo>
                      <a:pt x="0" y="70"/>
                    </a:lnTo>
                    <a:lnTo>
                      <a:pt x="148" y="139"/>
                    </a:lnTo>
                    <a:lnTo>
                      <a:pt x="148" y="95"/>
                    </a:lnTo>
                    <a:lnTo>
                      <a:pt x="367" y="95"/>
                    </a:lnTo>
                    <a:lnTo>
                      <a:pt x="367" y="227"/>
                    </a:lnTo>
                    <a:lnTo>
                      <a:pt x="293" y="227"/>
                    </a:lnTo>
                    <a:lnTo>
                      <a:pt x="408" y="3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ángulo 13"/>
              <p:cNvSpPr/>
              <p:nvPr/>
            </p:nvSpPr>
            <p:spPr>
              <a:xfrm>
                <a:off x="3879720" y="4581360"/>
                <a:ext cx="231480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VIA GLICOLI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ínea 14"/>
              <p:cNvSpPr/>
              <p:nvPr/>
            </p:nvSpPr>
            <p:spPr>
              <a:xfrm flipH="1">
                <a:off x="2442600" y="3362040"/>
                <a:ext cx="1008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ángulo 15"/>
              <p:cNvSpPr/>
              <p:nvPr/>
            </p:nvSpPr>
            <p:spPr>
              <a:xfrm>
                <a:off x="2516040" y="3001680"/>
                <a:ext cx="936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Híga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1" name="2 Conector recto de flecha"/>
              <p:cNvCxnSpPr/>
              <p:nvPr/>
            </p:nvCxnSpPr>
            <p:spPr>
              <a:xfrm>
                <a:off x="2511000" y="3499920"/>
                <a:ext cx="972360" cy="108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42" name="Rectángulo 1"/>
            <p:cNvSpPr/>
            <p:nvPr/>
          </p:nvSpPr>
          <p:spPr>
            <a:xfrm>
              <a:off x="4977000" y="3537000"/>
              <a:ext cx="118800" cy="539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lamada de flecha hacia abajo 2"/>
          <p:cNvSpPr/>
          <p:nvPr/>
        </p:nvSpPr>
        <p:spPr>
          <a:xfrm>
            <a:off x="4440240" y="2344680"/>
            <a:ext cx="1244520" cy="665280"/>
          </a:xfrm>
          <a:prstGeom prst="downArrowCallout">
            <a:avLst>
              <a:gd name="adj1" fmla="val 16890"/>
              <a:gd name="adj2" fmla="val 24994"/>
              <a:gd name="adj3" fmla="val 25000"/>
              <a:gd name="adj4" fmla="val 1836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lipse 34"/>
          <p:cNvSpPr/>
          <p:nvPr/>
        </p:nvSpPr>
        <p:spPr>
          <a:xfrm>
            <a:off x="1619280" y="4437000"/>
            <a:ext cx="2016000" cy="18194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 Rectángulo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igen y destinos metabólic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ángulo 3"/>
          <p:cNvSpPr/>
          <p:nvPr/>
        </p:nvSpPr>
        <p:spPr>
          <a:xfrm>
            <a:off x="1241280" y="2906640"/>
            <a:ext cx="205452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ángulo 5"/>
          <p:cNvSpPr/>
          <p:nvPr/>
        </p:nvSpPr>
        <p:spPr>
          <a:xfrm>
            <a:off x="1692360" y="4195800"/>
            <a:ext cx="13809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ángulo 6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ángulo 10"/>
          <p:cNvSpPr/>
          <p:nvPr/>
        </p:nvSpPr>
        <p:spPr>
          <a:xfrm>
            <a:off x="4294080" y="3668760"/>
            <a:ext cx="1544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ángulo 11"/>
          <p:cNvSpPr/>
          <p:nvPr/>
        </p:nvSpPr>
        <p:spPr>
          <a:xfrm>
            <a:off x="7032600" y="3135240"/>
            <a:ext cx="98748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ángulo 12"/>
          <p:cNvSpPr/>
          <p:nvPr/>
        </p:nvSpPr>
        <p:spPr>
          <a:xfrm>
            <a:off x="7032600" y="4049640"/>
            <a:ext cx="11397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ángulo 13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ínea 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ínea 17"/>
          <p:cNvSpPr/>
          <p:nvPr/>
        </p:nvSpPr>
        <p:spPr>
          <a:xfrm flipH="1">
            <a:off x="3105000" y="3917880"/>
            <a:ext cx="1182960" cy="30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ínea 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ínea 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ínea 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ínea 21"/>
          <p:cNvSpPr/>
          <p:nvPr/>
        </p:nvSpPr>
        <p:spPr>
          <a:xfrm flipH="1">
            <a:off x="605772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ínea 22"/>
          <p:cNvSpPr/>
          <p:nvPr/>
        </p:nvSpPr>
        <p:spPr>
          <a:xfrm>
            <a:off x="6116760" y="3971880"/>
            <a:ext cx="7617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ínea 23"/>
          <p:cNvSpPr/>
          <p:nvPr/>
        </p:nvSpPr>
        <p:spPr>
          <a:xfrm flipH="1" flipV="1">
            <a:off x="5963760" y="4048200"/>
            <a:ext cx="83844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ínea 33"/>
          <p:cNvSpPr/>
          <p:nvPr/>
        </p:nvSpPr>
        <p:spPr>
          <a:xfrm flipH="1">
            <a:off x="3622680" y="5168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rma libre 36"/>
          <p:cNvSpPr/>
          <p:nvPr/>
        </p:nvSpPr>
        <p:spPr>
          <a:xfrm>
            <a:off x="3689280" y="411480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67" h="149">
                <a:moveTo>
                  <a:pt x="166" y="92"/>
                </a:moveTo>
                <a:lnTo>
                  <a:pt x="143" y="108"/>
                </a:lnTo>
                <a:lnTo>
                  <a:pt x="119" y="123"/>
                </a:lnTo>
                <a:lnTo>
                  <a:pt x="97" y="134"/>
                </a:lnTo>
                <a:lnTo>
                  <a:pt x="76" y="142"/>
                </a:lnTo>
                <a:lnTo>
                  <a:pt x="58" y="147"/>
                </a:lnTo>
                <a:lnTo>
                  <a:pt x="42" y="148"/>
                </a:lnTo>
                <a:lnTo>
                  <a:pt x="30" y="145"/>
                </a:lnTo>
                <a:lnTo>
                  <a:pt x="21" y="139"/>
                </a:lnTo>
                <a:lnTo>
                  <a:pt x="4" y="116"/>
                </a:lnTo>
                <a:lnTo>
                  <a:pt x="0" y="109"/>
                </a:lnTo>
                <a:lnTo>
                  <a:pt x="0" y="100"/>
                </a:lnTo>
                <a:lnTo>
                  <a:pt x="2" y="89"/>
                </a:lnTo>
                <a:lnTo>
                  <a:pt x="7" y="77"/>
                </a:lnTo>
                <a:lnTo>
                  <a:pt x="14" y="64"/>
                </a:lnTo>
                <a:lnTo>
                  <a:pt x="24" y="50"/>
                </a:lnTo>
                <a:lnTo>
                  <a:pt x="36" y="35"/>
                </a:lnTo>
                <a:lnTo>
                  <a:pt x="51" y="20"/>
                </a:lnTo>
                <a:lnTo>
                  <a:pt x="42" y="9"/>
                </a:lnTo>
                <a:lnTo>
                  <a:pt x="96" y="0"/>
                </a:lnTo>
                <a:lnTo>
                  <a:pt x="77" y="54"/>
                </a:lnTo>
                <a:lnTo>
                  <a:pt x="69" y="43"/>
                </a:lnTo>
                <a:lnTo>
                  <a:pt x="48" y="66"/>
                </a:lnTo>
                <a:lnTo>
                  <a:pt x="32" y="88"/>
                </a:lnTo>
                <a:lnTo>
                  <a:pt x="26" y="98"/>
                </a:lnTo>
                <a:lnTo>
                  <a:pt x="21" y="107"/>
                </a:lnTo>
                <a:lnTo>
                  <a:pt x="19" y="116"/>
                </a:lnTo>
                <a:lnTo>
                  <a:pt x="17" y="124"/>
                </a:lnTo>
                <a:lnTo>
                  <a:pt x="29" y="125"/>
                </a:lnTo>
                <a:lnTo>
                  <a:pt x="42" y="123"/>
                </a:lnTo>
                <a:lnTo>
                  <a:pt x="58" y="119"/>
                </a:lnTo>
                <a:lnTo>
                  <a:pt x="74" y="113"/>
                </a:lnTo>
                <a:lnTo>
                  <a:pt x="92" y="105"/>
                </a:lnTo>
                <a:lnTo>
                  <a:pt x="111" y="94"/>
                </a:lnTo>
                <a:lnTo>
                  <a:pt x="130" y="82"/>
                </a:lnTo>
                <a:lnTo>
                  <a:pt x="149" y="69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ángulo 37"/>
          <p:cNvSpPr/>
          <p:nvPr/>
        </p:nvSpPr>
        <p:spPr>
          <a:xfrm>
            <a:off x="3985200" y="4124160"/>
            <a:ext cx="50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s-ES_tradnl" sz="1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ángulo 38"/>
          <p:cNvSpPr/>
          <p:nvPr/>
        </p:nvSpPr>
        <p:spPr>
          <a:xfrm>
            <a:off x="5151600" y="4505400"/>
            <a:ext cx="738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s-ES_tradnl" sz="1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rma libre 39"/>
          <p:cNvSpPr/>
          <p:nvPr/>
        </p:nvSpPr>
        <p:spPr>
          <a:xfrm>
            <a:off x="5162400" y="4262400"/>
            <a:ext cx="303480" cy="260280"/>
          </a:xfrm>
          <a:custGeom>
            <a:avLst/>
            <a:gdLst>
              <a:gd name="textAreaLeft" fmla="*/ 0 w 303480"/>
              <a:gd name="textAreaRight" fmla="*/ 303840 w 303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1" h="164">
                <a:moveTo>
                  <a:pt x="0" y="97"/>
                </a:moveTo>
                <a:lnTo>
                  <a:pt x="13" y="73"/>
                </a:lnTo>
                <a:lnTo>
                  <a:pt x="28" y="52"/>
                </a:lnTo>
                <a:lnTo>
                  <a:pt x="43" y="34"/>
                </a:lnTo>
                <a:lnTo>
                  <a:pt x="59" y="19"/>
                </a:lnTo>
                <a:lnTo>
                  <a:pt x="76" y="8"/>
                </a:lnTo>
                <a:lnTo>
                  <a:pt x="91" y="2"/>
                </a:lnTo>
                <a:lnTo>
                  <a:pt x="106" y="0"/>
                </a:lnTo>
                <a:lnTo>
                  <a:pt x="119" y="3"/>
                </a:lnTo>
                <a:lnTo>
                  <a:pt x="154" y="20"/>
                </a:lnTo>
                <a:lnTo>
                  <a:pt x="163" y="26"/>
                </a:lnTo>
                <a:lnTo>
                  <a:pt x="170" y="35"/>
                </a:lnTo>
                <a:lnTo>
                  <a:pt x="175" y="46"/>
                </a:lnTo>
                <a:lnTo>
                  <a:pt x="178" y="59"/>
                </a:lnTo>
                <a:lnTo>
                  <a:pt x="180" y="74"/>
                </a:lnTo>
                <a:lnTo>
                  <a:pt x="179" y="91"/>
                </a:lnTo>
                <a:lnTo>
                  <a:pt x="177" y="110"/>
                </a:lnTo>
                <a:lnTo>
                  <a:pt x="172" y="129"/>
                </a:lnTo>
                <a:lnTo>
                  <a:pt x="190" y="137"/>
                </a:lnTo>
                <a:lnTo>
                  <a:pt x="139" y="163"/>
                </a:lnTo>
                <a:lnTo>
                  <a:pt x="120" y="104"/>
                </a:lnTo>
                <a:lnTo>
                  <a:pt x="138" y="113"/>
                </a:lnTo>
                <a:lnTo>
                  <a:pt x="144" y="83"/>
                </a:lnTo>
                <a:lnTo>
                  <a:pt x="145" y="57"/>
                </a:lnTo>
                <a:lnTo>
                  <a:pt x="142" y="35"/>
                </a:lnTo>
                <a:lnTo>
                  <a:pt x="134" y="17"/>
                </a:lnTo>
                <a:lnTo>
                  <a:pt x="122" y="20"/>
                </a:lnTo>
                <a:lnTo>
                  <a:pt x="108" y="26"/>
                </a:lnTo>
                <a:lnTo>
                  <a:pt x="95" y="35"/>
                </a:lnTo>
                <a:lnTo>
                  <a:pt x="82" y="46"/>
                </a:lnTo>
                <a:lnTo>
                  <a:pt x="69" y="60"/>
                </a:lnTo>
                <a:lnTo>
                  <a:pt x="57" y="76"/>
                </a:lnTo>
                <a:lnTo>
                  <a:pt x="45" y="94"/>
                </a:lnTo>
                <a:lnTo>
                  <a:pt x="35" y="11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ángulo 42"/>
          <p:cNvSpPr/>
          <p:nvPr/>
        </p:nvSpPr>
        <p:spPr>
          <a:xfrm>
            <a:off x="4206960" y="2671920"/>
            <a:ext cx="2066760" cy="33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Otros monosacá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ínea 43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950760"/>
            <a:ext cx="7056720" cy="55026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272" name="Text Box 4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277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280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282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284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6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289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292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295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299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824040" y="511200"/>
            <a:ext cx="76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s del Piruvato según las condiciones y tipo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>
            <a:off x="3635280" y="3860640"/>
            <a:ext cx="0" cy="1297080"/>
          </a:xfrm>
          <a:prstGeom prst="line">
            <a:avLst/>
          </a:prstGeom>
          <a:ln w="414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3206160" y="5167440"/>
            <a:ext cx="151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Ac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(gluconobac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y acetobac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2"/>
          <p:cNvSpPr/>
          <p:nvPr/>
        </p:nvSpPr>
        <p:spPr>
          <a:xfrm>
            <a:off x="530280" y="941400"/>
            <a:ext cx="8074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Origen y destinos metabólicos del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9"/>
          <p:cNvGrpSpPr/>
          <p:nvPr/>
        </p:nvGrpSpPr>
        <p:grpSpPr>
          <a:xfrm>
            <a:off x="436680" y="2104920"/>
            <a:ext cx="8089560" cy="4444560"/>
            <a:chOff x="436680" y="2104920"/>
            <a:chExt cx="8089560" cy="4444560"/>
          </a:xfrm>
        </p:grpSpPr>
        <p:grpSp>
          <p:nvGrpSpPr>
            <p:cNvPr id="310" name="Group 4"/>
            <p:cNvGrpSpPr/>
            <p:nvPr/>
          </p:nvGrpSpPr>
          <p:grpSpPr>
            <a:xfrm>
              <a:off x="436680" y="3128760"/>
              <a:ext cx="8089560" cy="3420720"/>
              <a:chOff x="436680" y="3128760"/>
              <a:chExt cx="8089560" cy="3420720"/>
            </a:xfrm>
          </p:grpSpPr>
          <p:sp>
            <p:nvSpPr>
              <p:cNvPr id="311" name="Rectángulo 4"/>
              <p:cNvSpPr/>
              <p:nvPr/>
            </p:nvSpPr>
            <p:spPr>
              <a:xfrm>
                <a:off x="436680" y="3592440"/>
                <a:ext cx="3127320" cy="915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7030a0"/>
                    </a:solidFill>
                    <a:latin typeface="Times New Roman"/>
                  </a:rPr>
                  <a:t>3-Hidroxi-3metil-glutaril-Co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7030a0"/>
                    </a:solidFill>
                    <a:latin typeface="Times New Roman"/>
                  </a:rPr>
                  <a:t>(HMG-Co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ángulo 7"/>
              <p:cNvSpPr/>
              <p:nvPr/>
            </p:nvSpPr>
            <p:spPr>
              <a:xfrm>
                <a:off x="1279440" y="3819600"/>
                <a:ext cx="641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ángulo 8"/>
              <p:cNvSpPr/>
              <p:nvPr/>
            </p:nvSpPr>
            <p:spPr>
              <a:xfrm>
                <a:off x="652680" y="5076720"/>
                <a:ext cx="1177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imes New Roman"/>
                  </a:rPr>
                  <a:t>Coleste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ángulo 9"/>
              <p:cNvSpPr/>
              <p:nvPr/>
            </p:nvSpPr>
            <p:spPr>
              <a:xfrm>
                <a:off x="2651040" y="5091120"/>
                <a:ext cx="1218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Cuerp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 </a:t>
                </a: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ángulo 14"/>
              <p:cNvSpPr/>
              <p:nvPr/>
            </p:nvSpPr>
            <p:spPr>
              <a:xfrm>
                <a:off x="4793400" y="6145200"/>
                <a:ext cx="709200" cy="40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2C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ángulo 15"/>
              <p:cNvSpPr/>
              <p:nvPr/>
            </p:nvSpPr>
            <p:spPr>
              <a:xfrm>
                <a:off x="7001640" y="3363840"/>
                <a:ext cx="1524600" cy="36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Times New Roman"/>
                  </a:rPr>
                  <a:t>Acidos gras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ínea 24"/>
              <p:cNvSpPr/>
              <p:nvPr/>
            </p:nvSpPr>
            <p:spPr>
              <a:xfrm>
                <a:off x="5013360" y="38955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ínea 25"/>
              <p:cNvSpPr/>
              <p:nvPr/>
            </p:nvSpPr>
            <p:spPr>
              <a:xfrm flipH="1">
                <a:off x="1355400" y="4581360"/>
                <a:ext cx="304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ínea 26"/>
              <p:cNvSpPr/>
              <p:nvPr/>
            </p:nvSpPr>
            <p:spPr>
              <a:xfrm>
                <a:off x="2727360" y="4581360"/>
                <a:ext cx="3376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ínea 27"/>
              <p:cNvSpPr/>
              <p:nvPr/>
            </p:nvSpPr>
            <p:spPr>
              <a:xfrm flipH="1">
                <a:off x="3565080" y="3636720"/>
                <a:ext cx="4568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Elipse 28"/>
              <p:cNvSpPr/>
              <p:nvPr/>
            </p:nvSpPr>
            <p:spPr>
              <a:xfrm>
                <a:off x="4249800" y="4208400"/>
                <a:ext cx="1617120" cy="1449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c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orma libre 29"/>
              <p:cNvSpPr/>
              <p:nvPr/>
            </p:nvSpPr>
            <p:spPr>
              <a:xfrm>
                <a:off x="5775120" y="3286080"/>
                <a:ext cx="1191960" cy="306360"/>
              </a:xfrm>
              <a:custGeom>
                <a:avLst/>
                <a:gdLst>
                  <a:gd name="textAreaLeft" fmla="*/ 0 w 1191960"/>
                  <a:gd name="textAreaRight" fmla="*/ 1192320 w 119196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751" h="193">
                    <a:moveTo>
                      <a:pt x="0" y="192"/>
                    </a:moveTo>
                    <a:lnTo>
                      <a:pt x="2" y="172"/>
                    </a:lnTo>
                    <a:lnTo>
                      <a:pt x="7" y="153"/>
                    </a:lnTo>
                    <a:lnTo>
                      <a:pt x="15" y="135"/>
                    </a:lnTo>
                    <a:lnTo>
                      <a:pt x="26" y="118"/>
                    </a:lnTo>
                    <a:lnTo>
                      <a:pt x="40" y="100"/>
                    </a:lnTo>
                    <a:lnTo>
                      <a:pt x="56" y="85"/>
                    </a:lnTo>
                    <a:lnTo>
                      <a:pt x="75" y="70"/>
                    </a:lnTo>
                    <a:lnTo>
                      <a:pt x="96" y="56"/>
                    </a:lnTo>
                    <a:lnTo>
                      <a:pt x="119" y="44"/>
                    </a:lnTo>
                    <a:lnTo>
                      <a:pt x="144" y="33"/>
                    </a:lnTo>
                    <a:lnTo>
                      <a:pt x="200" y="15"/>
                    </a:lnTo>
                    <a:lnTo>
                      <a:pt x="230" y="9"/>
                    </a:lnTo>
                    <a:lnTo>
                      <a:pt x="261" y="4"/>
                    </a:lnTo>
                    <a:lnTo>
                      <a:pt x="293" y="1"/>
                    </a:lnTo>
                    <a:lnTo>
                      <a:pt x="327" y="0"/>
                    </a:lnTo>
                    <a:lnTo>
                      <a:pt x="378" y="0"/>
                    </a:lnTo>
                    <a:lnTo>
                      <a:pt x="429" y="2"/>
                    </a:lnTo>
                    <a:lnTo>
                      <a:pt x="478" y="9"/>
                    </a:lnTo>
                    <a:lnTo>
                      <a:pt x="524" y="20"/>
                    </a:lnTo>
                    <a:lnTo>
                      <a:pt x="566" y="35"/>
                    </a:lnTo>
                    <a:lnTo>
                      <a:pt x="604" y="54"/>
                    </a:lnTo>
                    <a:lnTo>
                      <a:pt x="637" y="76"/>
                    </a:lnTo>
                    <a:lnTo>
                      <a:pt x="665" y="100"/>
                    </a:lnTo>
                    <a:lnTo>
                      <a:pt x="676" y="114"/>
                    </a:lnTo>
                    <a:lnTo>
                      <a:pt x="685" y="128"/>
                    </a:lnTo>
                    <a:lnTo>
                      <a:pt x="750" y="128"/>
                    </a:lnTo>
                    <a:lnTo>
                      <a:pt x="679" y="192"/>
                    </a:lnTo>
                    <a:lnTo>
                      <a:pt x="570" y="128"/>
                    </a:lnTo>
                    <a:lnTo>
                      <a:pt x="634" y="128"/>
                    </a:lnTo>
                    <a:lnTo>
                      <a:pt x="615" y="102"/>
                    </a:lnTo>
                    <a:lnTo>
                      <a:pt x="590" y="79"/>
                    </a:lnTo>
                    <a:lnTo>
                      <a:pt x="560" y="58"/>
                    </a:lnTo>
                    <a:lnTo>
                      <a:pt x="525" y="40"/>
                    </a:lnTo>
                    <a:lnTo>
                      <a:pt x="487" y="25"/>
                    </a:lnTo>
                    <a:lnTo>
                      <a:pt x="444" y="13"/>
                    </a:lnTo>
                    <a:lnTo>
                      <a:pt x="399" y="5"/>
                    </a:lnTo>
                    <a:lnTo>
                      <a:pt x="352" y="1"/>
                    </a:lnTo>
                    <a:lnTo>
                      <a:pt x="290" y="7"/>
                    </a:lnTo>
                    <a:lnTo>
                      <a:pt x="233" y="20"/>
                    </a:lnTo>
                    <a:lnTo>
                      <a:pt x="182" y="38"/>
                    </a:lnTo>
                    <a:lnTo>
                      <a:pt x="159" y="49"/>
                    </a:lnTo>
                    <a:lnTo>
                      <a:pt x="138" y="62"/>
                    </a:lnTo>
                    <a:lnTo>
                      <a:pt x="119" y="75"/>
                    </a:lnTo>
                    <a:lnTo>
                      <a:pt x="102" y="90"/>
                    </a:lnTo>
                    <a:lnTo>
                      <a:pt x="87" y="105"/>
                    </a:lnTo>
                    <a:lnTo>
                      <a:pt x="74" y="121"/>
                    </a:lnTo>
                    <a:lnTo>
                      <a:pt x="64" y="138"/>
                    </a:lnTo>
                    <a:lnTo>
                      <a:pt x="57" y="156"/>
                    </a:lnTo>
                    <a:lnTo>
                      <a:pt x="53" y="174"/>
                    </a:lnTo>
                    <a:lnTo>
                      <a:pt x="51" y="192"/>
                    </a:lnTo>
                  </a:path>
                </a:pathLst>
              </a:cu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orma libre 30"/>
              <p:cNvSpPr/>
              <p:nvPr/>
            </p:nvSpPr>
            <p:spPr>
              <a:xfrm>
                <a:off x="5740200" y="3794040"/>
                <a:ext cx="1265040" cy="414360"/>
              </a:xfrm>
              <a:custGeom>
                <a:avLst/>
                <a:gdLst>
                  <a:gd name="textAreaLeft" fmla="*/ 0 w 1265040"/>
                  <a:gd name="textAreaRight" fmla="*/ 1265040 w 12650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797" h="261">
                    <a:moveTo>
                      <a:pt x="796" y="38"/>
                    </a:moveTo>
                    <a:lnTo>
                      <a:pt x="793" y="62"/>
                    </a:lnTo>
                    <a:lnTo>
                      <a:pt x="786" y="86"/>
                    </a:lnTo>
                    <a:lnTo>
                      <a:pt x="776" y="108"/>
                    </a:lnTo>
                    <a:lnTo>
                      <a:pt x="763" y="130"/>
                    </a:lnTo>
                    <a:lnTo>
                      <a:pt x="747" y="150"/>
                    </a:lnTo>
                    <a:lnTo>
                      <a:pt x="729" y="169"/>
                    </a:lnTo>
                    <a:lnTo>
                      <a:pt x="708" y="186"/>
                    </a:lnTo>
                    <a:lnTo>
                      <a:pt x="684" y="202"/>
                    </a:lnTo>
                    <a:lnTo>
                      <a:pt x="658" y="216"/>
                    </a:lnTo>
                    <a:lnTo>
                      <a:pt x="631" y="228"/>
                    </a:lnTo>
                    <a:lnTo>
                      <a:pt x="601" y="239"/>
                    </a:lnTo>
                    <a:lnTo>
                      <a:pt x="570" y="247"/>
                    </a:lnTo>
                    <a:lnTo>
                      <a:pt x="537" y="254"/>
                    </a:lnTo>
                    <a:lnTo>
                      <a:pt x="504" y="258"/>
                    </a:lnTo>
                    <a:lnTo>
                      <a:pt x="469" y="260"/>
                    </a:lnTo>
                    <a:lnTo>
                      <a:pt x="433" y="259"/>
                    </a:lnTo>
                    <a:lnTo>
                      <a:pt x="393" y="257"/>
                    </a:lnTo>
                    <a:lnTo>
                      <a:pt x="340" y="251"/>
                    </a:lnTo>
                    <a:lnTo>
                      <a:pt x="289" y="241"/>
                    </a:lnTo>
                    <a:lnTo>
                      <a:pt x="241" y="225"/>
                    </a:lnTo>
                    <a:lnTo>
                      <a:pt x="197" y="205"/>
                    </a:lnTo>
                    <a:lnTo>
                      <a:pt x="158" y="180"/>
                    </a:lnTo>
                    <a:lnTo>
                      <a:pt x="124" y="152"/>
                    </a:lnTo>
                    <a:lnTo>
                      <a:pt x="95" y="121"/>
                    </a:lnTo>
                    <a:lnTo>
                      <a:pt x="74" y="86"/>
                    </a:lnTo>
                    <a:lnTo>
                      <a:pt x="0" y="83"/>
                    </a:lnTo>
                    <a:lnTo>
                      <a:pt x="75" y="0"/>
                    </a:lnTo>
                    <a:lnTo>
                      <a:pt x="187" y="93"/>
                    </a:lnTo>
                    <a:lnTo>
                      <a:pt x="113" y="88"/>
                    </a:lnTo>
                    <a:lnTo>
                      <a:pt x="134" y="121"/>
                    </a:lnTo>
                    <a:lnTo>
                      <a:pt x="160" y="151"/>
                    </a:lnTo>
                    <a:lnTo>
                      <a:pt x="192" y="178"/>
                    </a:lnTo>
                    <a:lnTo>
                      <a:pt x="229" y="202"/>
                    </a:lnTo>
                    <a:lnTo>
                      <a:pt x="270" y="222"/>
                    </a:lnTo>
                    <a:lnTo>
                      <a:pt x="314" y="239"/>
                    </a:lnTo>
                    <a:lnTo>
                      <a:pt x="363" y="250"/>
                    </a:lnTo>
                    <a:lnTo>
                      <a:pt x="413" y="257"/>
                    </a:lnTo>
                    <a:lnTo>
                      <a:pt x="448" y="257"/>
                    </a:lnTo>
                    <a:lnTo>
                      <a:pt x="481" y="254"/>
                    </a:lnTo>
                    <a:lnTo>
                      <a:pt x="513" y="249"/>
                    </a:lnTo>
                    <a:lnTo>
                      <a:pt x="545" y="242"/>
                    </a:lnTo>
                    <a:lnTo>
                      <a:pt x="574" y="233"/>
                    </a:lnTo>
                    <a:lnTo>
                      <a:pt x="602" y="222"/>
                    </a:lnTo>
                    <a:lnTo>
                      <a:pt x="628" y="209"/>
                    </a:lnTo>
                    <a:lnTo>
                      <a:pt x="652" y="195"/>
                    </a:lnTo>
                    <a:lnTo>
                      <a:pt x="675" y="180"/>
                    </a:lnTo>
                    <a:lnTo>
                      <a:pt x="694" y="163"/>
                    </a:lnTo>
                    <a:lnTo>
                      <a:pt x="712" y="144"/>
                    </a:lnTo>
                    <a:lnTo>
                      <a:pt x="727" y="124"/>
                    </a:lnTo>
                    <a:lnTo>
                      <a:pt x="739" y="104"/>
                    </a:lnTo>
                    <a:lnTo>
                      <a:pt x="748" y="82"/>
                    </a:lnTo>
                    <a:lnTo>
                      <a:pt x="754" y="59"/>
                    </a:lnTo>
                    <a:lnTo>
                      <a:pt x="757" y="36"/>
                    </a:lnTo>
                  </a:path>
                </a:pathLst>
              </a:custGeom>
              <a:solidFill>
                <a:srgbClr val="99cc00"/>
              </a:solidFill>
              <a:ln cap="rnd" w="12600">
                <a:solidFill>
                  <a:srgbClr val="000000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Elipse 31"/>
              <p:cNvSpPr/>
              <p:nvPr/>
            </p:nvSpPr>
            <p:spPr>
              <a:xfrm>
                <a:off x="5694120" y="3128760"/>
                <a:ext cx="1076040" cy="39060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osínte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Elipse 32"/>
              <p:cNvSpPr/>
              <p:nvPr/>
            </p:nvSpPr>
            <p:spPr>
              <a:xfrm>
                <a:off x="5999040" y="3967200"/>
                <a:ext cx="1076040" cy="39060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Degrad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ínea 35"/>
              <p:cNvSpPr/>
              <p:nvPr/>
            </p:nvSpPr>
            <p:spPr>
              <a:xfrm>
                <a:off x="5089320" y="57117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ángulo 40"/>
              <p:cNvSpPr/>
              <p:nvPr/>
            </p:nvSpPr>
            <p:spPr>
              <a:xfrm>
                <a:off x="6532560" y="4728960"/>
                <a:ext cx="1685520" cy="70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70c0"/>
                    </a:solidFill>
                    <a:latin typeface="Times New Roman"/>
                  </a:rPr>
                  <a:t>Aminoácidos cetogénic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ínea 41"/>
              <p:cNvSpPr/>
              <p:nvPr/>
            </p:nvSpPr>
            <p:spPr>
              <a:xfrm flipH="1" flipV="1">
                <a:off x="5546160" y="3895560"/>
                <a:ext cx="91404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Rectángulo 10"/>
            <p:cNvSpPr/>
            <p:nvPr/>
          </p:nvSpPr>
          <p:spPr>
            <a:xfrm>
              <a:off x="4192560" y="2104920"/>
              <a:ext cx="1544400" cy="397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ángulo 13"/>
            <p:cNvSpPr/>
            <p:nvPr/>
          </p:nvSpPr>
          <p:spPr>
            <a:xfrm>
              <a:off x="4040280" y="3400200"/>
              <a:ext cx="1742400" cy="397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ínea 19"/>
            <p:cNvSpPr/>
            <p:nvPr/>
          </p:nvSpPr>
          <p:spPr>
            <a:xfrm>
              <a:off x="5024520" y="27129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ángulo 38"/>
            <p:cNvSpPr/>
            <p:nvPr/>
          </p:nvSpPr>
          <p:spPr>
            <a:xfrm>
              <a:off x="5049720" y="2941560"/>
              <a:ext cx="615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orma libre 39"/>
            <p:cNvSpPr/>
            <p:nvPr/>
          </p:nvSpPr>
          <p:spPr>
            <a:xfrm>
              <a:off x="5060880" y="2698560"/>
              <a:ext cx="302760" cy="2606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91" h="164">
                  <a:moveTo>
                    <a:pt x="0" y="97"/>
                  </a:moveTo>
                  <a:lnTo>
                    <a:pt x="13" y="73"/>
                  </a:lnTo>
                  <a:lnTo>
                    <a:pt x="28" y="52"/>
                  </a:lnTo>
                  <a:lnTo>
                    <a:pt x="43" y="34"/>
                  </a:lnTo>
                  <a:lnTo>
                    <a:pt x="59" y="19"/>
                  </a:lnTo>
                  <a:lnTo>
                    <a:pt x="76" y="8"/>
                  </a:lnTo>
                  <a:lnTo>
                    <a:pt x="91" y="2"/>
                  </a:lnTo>
                  <a:lnTo>
                    <a:pt x="106" y="0"/>
                  </a:lnTo>
                  <a:lnTo>
                    <a:pt x="119" y="3"/>
                  </a:lnTo>
                  <a:lnTo>
                    <a:pt x="154" y="20"/>
                  </a:lnTo>
                  <a:lnTo>
                    <a:pt x="163" y="26"/>
                  </a:lnTo>
                  <a:lnTo>
                    <a:pt x="170" y="35"/>
                  </a:lnTo>
                  <a:lnTo>
                    <a:pt x="175" y="46"/>
                  </a:lnTo>
                  <a:lnTo>
                    <a:pt x="178" y="59"/>
                  </a:lnTo>
                  <a:lnTo>
                    <a:pt x="180" y="74"/>
                  </a:lnTo>
                  <a:lnTo>
                    <a:pt x="179" y="91"/>
                  </a:lnTo>
                  <a:lnTo>
                    <a:pt x="177" y="110"/>
                  </a:lnTo>
                  <a:lnTo>
                    <a:pt x="172" y="129"/>
                  </a:lnTo>
                  <a:lnTo>
                    <a:pt x="190" y="137"/>
                  </a:lnTo>
                  <a:lnTo>
                    <a:pt x="139" y="163"/>
                  </a:lnTo>
                  <a:lnTo>
                    <a:pt x="120" y="104"/>
                  </a:lnTo>
                  <a:lnTo>
                    <a:pt x="138" y="113"/>
                  </a:lnTo>
                  <a:lnTo>
                    <a:pt x="144" y="83"/>
                  </a:lnTo>
                  <a:lnTo>
                    <a:pt x="145" y="57"/>
                  </a:lnTo>
                  <a:lnTo>
                    <a:pt x="142" y="35"/>
                  </a:lnTo>
                  <a:lnTo>
                    <a:pt x="134" y="17"/>
                  </a:lnTo>
                  <a:lnTo>
                    <a:pt x="122" y="20"/>
                  </a:lnTo>
                  <a:lnTo>
                    <a:pt x="108" y="26"/>
                  </a:lnTo>
                  <a:lnTo>
                    <a:pt x="95" y="35"/>
                  </a:lnTo>
                  <a:lnTo>
                    <a:pt x="82" y="46"/>
                  </a:lnTo>
                  <a:lnTo>
                    <a:pt x="69" y="60"/>
                  </a:lnTo>
                  <a:lnTo>
                    <a:pt x="57" y="76"/>
                  </a:lnTo>
                  <a:lnTo>
                    <a:pt x="45" y="94"/>
                  </a:lnTo>
                  <a:lnTo>
                    <a:pt x="35" y="114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1 CuadroTexto"/>
          <p:cNvSpPr/>
          <p:nvPr/>
        </p:nvSpPr>
        <p:spPr>
          <a:xfrm>
            <a:off x="4859280" y="968400"/>
            <a:ext cx="417528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6600"/>
                </a:solidFill>
                <a:uFillTx/>
                <a:latin typeface="Century Gothic"/>
              </a:rPr>
              <a:t>Perfiles metabólicos de los órganos m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Century Gothic"/>
              </a:rPr>
              <a:t>á</a:t>
            </a:r>
            <a:r>
              <a:rPr b="1" lang="es-MX" sz="2000" spc="-1" strike="noStrike" u="sng">
                <a:solidFill>
                  <a:srgbClr val="ff6600"/>
                </a:solidFill>
                <a:uFillTx/>
                <a:latin typeface="Century Gothic"/>
              </a:rPr>
              <a:t>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Cada tejido y cada órgano tiene una función especializada que se pone de manifiesto en su actividad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0000"/>
                </a:solidFill>
                <a:latin typeface="Century Gothic"/>
              </a:rPr>
              <a:t>Hígad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papel central en el metabolismo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procesa y distribuye metabolitos a los otros órganos a través de la circ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990099"/>
                </a:solidFill>
                <a:latin typeface="Century Gothic"/>
              </a:rPr>
              <a:t>Tejido muscular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utiliza energía metabólica para producir mov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33cc33"/>
                </a:solidFill>
                <a:latin typeface="Century Gothic"/>
              </a:rPr>
              <a:t>Tejido adipos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almacena y libera lípidos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usados como combus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Cerebr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bombea iones y libera neurotransmisores para producir señales eléctr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2"/>
          <p:cNvGrpSpPr/>
          <p:nvPr/>
        </p:nvGrpSpPr>
        <p:grpSpPr>
          <a:xfrm>
            <a:off x="333360" y="549360"/>
            <a:ext cx="4403880" cy="6119640"/>
            <a:chOff x="333360" y="549360"/>
            <a:chExt cx="4403880" cy="6119640"/>
          </a:xfrm>
        </p:grpSpPr>
        <p:grpSp>
          <p:nvGrpSpPr>
            <p:cNvPr id="337" name="Group 10"/>
            <p:cNvGrpSpPr/>
            <p:nvPr/>
          </p:nvGrpSpPr>
          <p:grpSpPr>
            <a:xfrm>
              <a:off x="333360" y="549360"/>
              <a:ext cx="4403880" cy="6119640"/>
              <a:chOff x="333360" y="549360"/>
              <a:chExt cx="4403880" cy="6119640"/>
            </a:xfrm>
          </p:grpSpPr>
          <p:grpSp>
            <p:nvGrpSpPr>
              <p:cNvPr id="338" name="Group 7"/>
              <p:cNvGrpSpPr/>
              <p:nvPr/>
            </p:nvGrpSpPr>
            <p:grpSpPr>
              <a:xfrm>
                <a:off x="333360" y="549360"/>
                <a:ext cx="4403880" cy="6119640"/>
                <a:chOff x="333360" y="549360"/>
                <a:chExt cx="4403880" cy="6119640"/>
              </a:xfrm>
            </p:grpSpPr>
            <p:pic>
              <p:nvPicPr>
                <p:cNvPr id="339" name="Picture 5" descr="tejidos+del+cuerp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3360" y="549360"/>
                  <a:ext cx="4403880" cy="611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Forma libre 4"/>
                <p:cNvSpPr/>
                <p:nvPr/>
              </p:nvSpPr>
              <p:spPr>
                <a:xfrm>
                  <a:off x="2122560" y="2997000"/>
                  <a:ext cx="433440" cy="3600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2704" h="1478">
                      <a:moveTo>
                        <a:pt x="52" y="905"/>
                      </a:moveTo>
                      <a:lnTo>
                        <a:pt x="71" y="837"/>
                      </a:lnTo>
                      <a:lnTo>
                        <a:pt x="86" y="759"/>
                      </a:lnTo>
                      <a:lnTo>
                        <a:pt x="101" y="673"/>
                      </a:lnTo>
                      <a:lnTo>
                        <a:pt x="120" y="584"/>
                      </a:lnTo>
                      <a:lnTo>
                        <a:pt x="144" y="497"/>
                      </a:lnTo>
                      <a:lnTo>
                        <a:pt x="176" y="412"/>
                      </a:lnTo>
                      <a:lnTo>
                        <a:pt x="221" y="336"/>
                      </a:lnTo>
                      <a:lnTo>
                        <a:pt x="279" y="273"/>
                      </a:lnTo>
                      <a:lnTo>
                        <a:pt x="355" y="218"/>
                      </a:lnTo>
                      <a:lnTo>
                        <a:pt x="447" y="168"/>
                      </a:lnTo>
                      <a:lnTo>
                        <a:pt x="552" y="123"/>
                      </a:lnTo>
                      <a:lnTo>
                        <a:pt x="665" y="84"/>
                      </a:lnTo>
                      <a:lnTo>
                        <a:pt x="782" y="52"/>
                      </a:lnTo>
                      <a:lnTo>
                        <a:pt x="899" y="27"/>
                      </a:lnTo>
                      <a:lnTo>
                        <a:pt x="1013" y="9"/>
                      </a:lnTo>
                      <a:lnTo>
                        <a:pt x="1119" y="0"/>
                      </a:lnTo>
                      <a:lnTo>
                        <a:pt x="1222" y="4"/>
                      </a:lnTo>
                      <a:lnTo>
                        <a:pt x="1328" y="21"/>
                      </a:lnTo>
                      <a:lnTo>
                        <a:pt x="1433" y="47"/>
                      </a:lnTo>
                      <a:lnTo>
                        <a:pt x="1537" y="81"/>
                      </a:lnTo>
                      <a:lnTo>
                        <a:pt x="1638" y="117"/>
                      </a:lnTo>
                      <a:lnTo>
                        <a:pt x="1732" y="152"/>
                      </a:lnTo>
                      <a:lnTo>
                        <a:pt x="1820" y="181"/>
                      </a:lnTo>
                      <a:lnTo>
                        <a:pt x="1899" y="202"/>
                      </a:lnTo>
                      <a:lnTo>
                        <a:pt x="1967" y="217"/>
                      </a:lnTo>
                      <a:lnTo>
                        <a:pt x="2025" y="230"/>
                      </a:lnTo>
                      <a:lnTo>
                        <a:pt x="2077" y="240"/>
                      </a:lnTo>
                      <a:lnTo>
                        <a:pt x="2123" y="248"/>
                      </a:lnTo>
                      <a:lnTo>
                        <a:pt x="2209" y="255"/>
                      </a:lnTo>
                      <a:lnTo>
                        <a:pt x="2299" y="251"/>
                      </a:lnTo>
                      <a:lnTo>
                        <a:pt x="2351" y="237"/>
                      </a:lnTo>
                      <a:lnTo>
                        <a:pt x="2409" y="212"/>
                      </a:lnTo>
                      <a:lnTo>
                        <a:pt x="2528" y="150"/>
                      </a:lnTo>
                      <a:lnTo>
                        <a:pt x="2583" y="122"/>
                      </a:lnTo>
                      <a:lnTo>
                        <a:pt x="2630" y="103"/>
                      </a:lnTo>
                      <a:lnTo>
                        <a:pt x="2666" y="99"/>
                      </a:lnTo>
                      <a:lnTo>
                        <a:pt x="2691" y="114"/>
                      </a:lnTo>
                      <a:lnTo>
                        <a:pt x="2697" y="132"/>
                      </a:lnTo>
                      <a:lnTo>
                        <a:pt x="2702" y="155"/>
                      </a:lnTo>
                      <a:lnTo>
                        <a:pt x="2703" y="218"/>
                      </a:lnTo>
                      <a:lnTo>
                        <a:pt x="2694" y="297"/>
                      </a:lnTo>
                      <a:lnTo>
                        <a:pt x="2678" y="383"/>
                      </a:lnTo>
                      <a:lnTo>
                        <a:pt x="2655" y="473"/>
                      </a:lnTo>
                      <a:lnTo>
                        <a:pt x="2626" y="559"/>
                      </a:lnTo>
                      <a:lnTo>
                        <a:pt x="2592" y="634"/>
                      </a:lnTo>
                      <a:lnTo>
                        <a:pt x="2554" y="691"/>
                      </a:lnTo>
                      <a:lnTo>
                        <a:pt x="2507" y="733"/>
                      </a:lnTo>
                      <a:lnTo>
                        <a:pt x="2448" y="766"/>
                      </a:lnTo>
                      <a:lnTo>
                        <a:pt x="2379" y="790"/>
                      </a:lnTo>
                      <a:lnTo>
                        <a:pt x="2306" y="809"/>
                      </a:lnTo>
                      <a:lnTo>
                        <a:pt x="2233" y="825"/>
                      </a:lnTo>
                      <a:lnTo>
                        <a:pt x="2165" y="837"/>
                      </a:lnTo>
                      <a:lnTo>
                        <a:pt x="2105" y="848"/>
                      </a:lnTo>
                      <a:lnTo>
                        <a:pt x="2058" y="859"/>
                      </a:lnTo>
                      <a:lnTo>
                        <a:pt x="2028" y="867"/>
                      </a:lnTo>
                      <a:lnTo>
                        <a:pt x="2013" y="869"/>
                      </a:lnTo>
                      <a:lnTo>
                        <a:pt x="2008" y="868"/>
                      </a:lnTo>
                      <a:lnTo>
                        <a:pt x="2006" y="864"/>
                      </a:lnTo>
                      <a:lnTo>
                        <a:pt x="2003" y="862"/>
                      </a:lnTo>
                      <a:lnTo>
                        <a:pt x="1994" y="863"/>
                      </a:lnTo>
                      <a:lnTo>
                        <a:pt x="1975" y="870"/>
                      </a:lnTo>
                      <a:lnTo>
                        <a:pt x="1938" y="883"/>
                      </a:lnTo>
                      <a:lnTo>
                        <a:pt x="1883" y="906"/>
                      </a:lnTo>
                      <a:lnTo>
                        <a:pt x="1814" y="938"/>
                      </a:lnTo>
                      <a:lnTo>
                        <a:pt x="1734" y="975"/>
                      </a:lnTo>
                      <a:lnTo>
                        <a:pt x="1649" y="1016"/>
                      </a:lnTo>
                      <a:lnTo>
                        <a:pt x="1472" y="1093"/>
                      </a:lnTo>
                      <a:lnTo>
                        <a:pt x="1390" y="1123"/>
                      </a:lnTo>
                      <a:lnTo>
                        <a:pt x="1319" y="1144"/>
                      </a:lnTo>
                      <a:lnTo>
                        <a:pt x="1258" y="1155"/>
                      </a:lnTo>
                      <a:lnTo>
                        <a:pt x="1201" y="1159"/>
                      </a:lnTo>
                      <a:lnTo>
                        <a:pt x="1097" y="1149"/>
                      </a:lnTo>
                      <a:lnTo>
                        <a:pt x="997" y="1134"/>
                      </a:lnTo>
                      <a:lnTo>
                        <a:pt x="947" y="1132"/>
                      </a:lnTo>
                      <a:lnTo>
                        <a:pt x="892" y="1134"/>
                      </a:lnTo>
                      <a:lnTo>
                        <a:pt x="832" y="1142"/>
                      </a:lnTo>
                      <a:lnTo>
                        <a:pt x="768" y="1152"/>
                      </a:lnTo>
                      <a:lnTo>
                        <a:pt x="633" y="1177"/>
                      </a:lnTo>
                      <a:lnTo>
                        <a:pt x="568" y="1192"/>
                      </a:lnTo>
                      <a:lnTo>
                        <a:pt x="508" y="1208"/>
                      </a:lnTo>
                      <a:lnTo>
                        <a:pt x="454" y="1224"/>
                      </a:lnTo>
                      <a:lnTo>
                        <a:pt x="410" y="1242"/>
                      </a:lnTo>
                      <a:lnTo>
                        <a:pt x="376" y="1262"/>
                      </a:lnTo>
                      <a:lnTo>
                        <a:pt x="351" y="1285"/>
                      </a:lnTo>
                      <a:lnTo>
                        <a:pt x="317" y="1334"/>
                      </a:lnTo>
                      <a:lnTo>
                        <a:pt x="294" y="1383"/>
                      </a:lnTo>
                      <a:lnTo>
                        <a:pt x="266" y="1419"/>
                      </a:lnTo>
                      <a:lnTo>
                        <a:pt x="232" y="1441"/>
                      </a:lnTo>
                      <a:lnTo>
                        <a:pt x="200" y="1455"/>
                      </a:lnTo>
                      <a:lnTo>
                        <a:pt x="168" y="1463"/>
                      </a:lnTo>
                      <a:lnTo>
                        <a:pt x="135" y="1465"/>
                      </a:lnTo>
                      <a:lnTo>
                        <a:pt x="98" y="1470"/>
                      </a:lnTo>
                      <a:lnTo>
                        <a:pt x="58" y="1477"/>
                      </a:lnTo>
                      <a:lnTo>
                        <a:pt x="39" y="1474"/>
                      </a:lnTo>
                      <a:lnTo>
                        <a:pt x="23" y="1465"/>
                      </a:lnTo>
                      <a:lnTo>
                        <a:pt x="10" y="1447"/>
                      </a:lnTo>
                      <a:lnTo>
                        <a:pt x="3" y="1419"/>
                      </a:lnTo>
                      <a:lnTo>
                        <a:pt x="0" y="1374"/>
                      </a:lnTo>
                      <a:lnTo>
                        <a:pt x="3" y="1315"/>
                      </a:lnTo>
                      <a:lnTo>
                        <a:pt x="9" y="1243"/>
                      </a:lnTo>
                      <a:lnTo>
                        <a:pt x="18" y="1167"/>
                      </a:lnTo>
                      <a:lnTo>
                        <a:pt x="28" y="1089"/>
                      </a:lnTo>
                      <a:lnTo>
                        <a:pt x="38" y="1017"/>
                      </a:lnTo>
                      <a:lnTo>
                        <a:pt x="47" y="953"/>
                      </a:lnTo>
                      <a:lnTo>
                        <a:pt x="52" y="905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1" name="Picture 9" descr="art21_Fig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65360"/>
                <a:ext cx="1081080" cy="64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2" name="Line 11"/>
            <p:cNvSpPr/>
            <p:nvPr/>
          </p:nvSpPr>
          <p:spPr>
            <a:xfrm>
              <a:off x="1403280" y="2852640"/>
              <a:ext cx="865080" cy="215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468360" y="62712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214280" y="1638360"/>
            <a:ext cx="6929640" cy="5005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560" y="69336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tabolismo de los monosacárid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rma libre 4"/>
          <p:cNvSpPr/>
          <p:nvPr/>
        </p:nvSpPr>
        <p:spPr>
          <a:xfrm>
            <a:off x="2050920" y="2205000"/>
            <a:ext cx="5545440" cy="3168720"/>
          </a:xfrm>
          <a:custGeom>
            <a:avLst/>
            <a:gdLst>
              <a:gd name="textAreaLeft" fmla="*/ 0 w 5545440"/>
              <a:gd name="textAreaRight" fmla="*/ 5545800 w 55454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2704" h="1478">
                <a:moveTo>
                  <a:pt x="52" y="905"/>
                </a:moveTo>
                <a:lnTo>
                  <a:pt x="71" y="837"/>
                </a:lnTo>
                <a:lnTo>
                  <a:pt x="86" y="759"/>
                </a:lnTo>
                <a:lnTo>
                  <a:pt x="101" y="673"/>
                </a:lnTo>
                <a:lnTo>
                  <a:pt x="120" y="584"/>
                </a:lnTo>
                <a:lnTo>
                  <a:pt x="144" y="497"/>
                </a:lnTo>
                <a:lnTo>
                  <a:pt x="176" y="412"/>
                </a:lnTo>
                <a:lnTo>
                  <a:pt x="221" y="336"/>
                </a:lnTo>
                <a:lnTo>
                  <a:pt x="279" y="273"/>
                </a:lnTo>
                <a:lnTo>
                  <a:pt x="355" y="218"/>
                </a:lnTo>
                <a:lnTo>
                  <a:pt x="447" y="168"/>
                </a:lnTo>
                <a:lnTo>
                  <a:pt x="552" y="123"/>
                </a:lnTo>
                <a:lnTo>
                  <a:pt x="665" y="84"/>
                </a:lnTo>
                <a:lnTo>
                  <a:pt x="782" y="52"/>
                </a:lnTo>
                <a:lnTo>
                  <a:pt x="899" y="27"/>
                </a:lnTo>
                <a:lnTo>
                  <a:pt x="1013" y="9"/>
                </a:lnTo>
                <a:lnTo>
                  <a:pt x="1119" y="0"/>
                </a:lnTo>
                <a:lnTo>
                  <a:pt x="1222" y="4"/>
                </a:lnTo>
                <a:lnTo>
                  <a:pt x="1328" y="21"/>
                </a:lnTo>
                <a:lnTo>
                  <a:pt x="1433" y="47"/>
                </a:lnTo>
                <a:lnTo>
                  <a:pt x="1537" y="81"/>
                </a:lnTo>
                <a:lnTo>
                  <a:pt x="1638" y="117"/>
                </a:lnTo>
                <a:lnTo>
                  <a:pt x="1732" y="152"/>
                </a:lnTo>
                <a:lnTo>
                  <a:pt x="1820" y="181"/>
                </a:lnTo>
                <a:lnTo>
                  <a:pt x="1899" y="202"/>
                </a:lnTo>
                <a:lnTo>
                  <a:pt x="1967" y="217"/>
                </a:lnTo>
                <a:lnTo>
                  <a:pt x="2025" y="230"/>
                </a:lnTo>
                <a:lnTo>
                  <a:pt x="2077" y="240"/>
                </a:lnTo>
                <a:lnTo>
                  <a:pt x="2123" y="248"/>
                </a:lnTo>
                <a:lnTo>
                  <a:pt x="2209" y="255"/>
                </a:lnTo>
                <a:lnTo>
                  <a:pt x="2299" y="251"/>
                </a:lnTo>
                <a:lnTo>
                  <a:pt x="2351" y="237"/>
                </a:lnTo>
                <a:lnTo>
                  <a:pt x="2409" y="212"/>
                </a:lnTo>
                <a:lnTo>
                  <a:pt x="2528" y="150"/>
                </a:lnTo>
                <a:lnTo>
                  <a:pt x="2583" y="122"/>
                </a:lnTo>
                <a:lnTo>
                  <a:pt x="2630" y="103"/>
                </a:lnTo>
                <a:lnTo>
                  <a:pt x="2666" y="99"/>
                </a:lnTo>
                <a:lnTo>
                  <a:pt x="2691" y="114"/>
                </a:lnTo>
                <a:lnTo>
                  <a:pt x="2697" y="132"/>
                </a:lnTo>
                <a:lnTo>
                  <a:pt x="2702" y="155"/>
                </a:lnTo>
                <a:lnTo>
                  <a:pt x="2703" y="218"/>
                </a:lnTo>
                <a:lnTo>
                  <a:pt x="2694" y="297"/>
                </a:lnTo>
                <a:lnTo>
                  <a:pt x="2678" y="383"/>
                </a:lnTo>
                <a:lnTo>
                  <a:pt x="2655" y="473"/>
                </a:lnTo>
                <a:lnTo>
                  <a:pt x="2626" y="559"/>
                </a:lnTo>
                <a:lnTo>
                  <a:pt x="2592" y="634"/>
                </a:lnTo>
                <a:lnTo>
                  <a:pt x="2554" y="691"/>
                </a:lnTo>
                <a:lnTo>
                  <a:pt x="2507" y="733"/>
                </a:lnTo>
                <a:lnTo>
                  <a:pt x="2448" y="766"/>
                </a:lnTo>
                <a:lnTo>
                  <a:pt x="2379" y="790"/>
                </a:lnTo>
                <a:lnTo>
                  <a:pt x="2306" y="809"/>
                </a:lnTo>
                <a:lnTo>
                  <a:pt x="2233" y="825"/>
                </a:lnTo>
                <a:lnTo>
                  <a:pt x="2165" y="837"/>
                </a:lnTo>
                <a:lnTo>
                  <a:pt x="2105" y="848"/>
                </a:lnTo>
                <a:lnTo>
                  <a:pt x="2058" y="859"/>
                </a:lnTo>
                <a:lnTo>
                  <a:pt x="2028" y="867"/>
                </a:lnTo>
                <a:lnTo>
                  <a:pt x="2013" y="869"/>
                </a:lnTo>
                <a:lnTo>
                  <a:pt x="2008" y="868"/>
                </a:lnTo>
                <a:lnTo>
                  <a:pt x="2006" y="864"/>
                </a:lnTo>
                <a:lnTo>
                  <a:pt x="2003" y="862"/>
                </a:lnTo>
                <a:lnTo>
                  <a:pt x="1994" y="863"/>
                </a:lnTo>
                <a:lnTo>
                  <a:pt x="1975" y="870"/>
                </a:lnTo>
                <a:lnTo>
                  <a:pt x="1938" y="883"/>
                </a:lnTo>
                <a:lnTo>
                  <a:pt x="1883" y="906"/>
                </a:lnTo>
                <a:lnTo>
                  <a:pt x="1814" y="938"/>
                </a:lnTo>
                <a:lnTo>
                  <a:pt x="1734" y="975"/>
                </a:lnTo>
                <a:lnTo>
                  <a:pt x="1649" y="1016"/>
                </a:lnTo>
                <a:lnTo>
                  <a:pt x="1472" y="1093"/>
                </a:lnTo>
                <a:lnTo>
                  <a:pt x="1390" y="1123"/>
                </a:lnTo>
                <a:lnTo>
                  <a:pt x="1319" y="1144"/>
                </a:lnTo>
                <a:lnTo>
                  <a:pt x="1258" y="1155"/>
                </a:lnTo>
                <a:lnTo>
                  <a:pt x="1201" y="1159"/>
                </a:lnTo>
                <a:lnTo>
                  <a:pt x="1097" y="1149"/>
                </a:lnTo>
                <a:lnTo>
                  <a:pt x="997" y="1134"/>
                </a:lnTo>
                <a:lnTo>
                  <a:pt x="947" y="1132"/>
                </a:lnTo>
                <a:lnTo>
                  <a:pt x="892" y="1134"/>
                </a:lnTo>
                <a:lnTo>
                  <a:pt x="832" y="1142"/>
                </a:lnTo>
                <a:lnTo>
                  <a:pt x="768" y="1152"/>
                </a:lnTo>
                <a:lnTo>
                  <a:pt x="633" y="1177"/>
                </a:lnTo>
                <a:lnTo>
                  <a:pt x="568" y="1192"/>
                </a:lnTo>
                <a:lnTo>
                  <a:pt x="508" y="1208"/>
                </a:lnTo>
                <a:lnTo>
                  <a:pt x="454" y="1224"/>
                </a:lnTo>
                <a:lnTo>
                  <a:pt x="410" y="1242"/>
                </a:lnTo>
                <a:lnTo>
                  <a:pt x="376" y="1262"/>
                </a:lnTo>
                <a:lnTo>
                  <a:pt x="351" y="1285"/>
                </a:lnTo>
                <a:lnTo>
                  <a:pt x="317" y="1334"/>
                </a:lnTo>
                <a:lnTo>
                  <a:pt x="294" y="1383"/>
                </a:lnTo>
                <a:lnTo>
                  <a:pt x="266" y="1419"/>
                </a:lnTo>
                <a:lnTo>
                  <a:pt x="232" y="1441"/>
                </a:lnTo>
                <a:lnTo>
                  <a:pt x="200" y="1455"/>
                </a:lnTo>
                <a:lnTo>
                  <a:pt x="168" y="1463"/>
                </a:lnTo>
                <a:lnTo>
                  <a:pt x="135" y="1465"/>
                </a:lnTo>
                <a:lnTo>
                  <a:pt x="98" y="1470"/>
                </a:lnTo>
                <a:lnTo>
                  <a:pt x="58" y="1477"/>
                </a:lnTo>
                <a:lnTo>
                  <a:pt x="39" y="1474"/>
                </a:lnTo>
                <a:lnTo>
                  <a:pt x="23" y="1465"/>
                </a:lnTo>
                <a:lnTo>
                  <a:pt x="10" y="1447"/>
                </a:lnTo>
                <a:lnTo>
                  <a:pt x="3" y="1419"/>
                </a:lnTo>
                <a:lnTo>
                  <a:pt x="0" y="1374"/>
                </a:lnTo>
                <a:lnTo>
                  <a:pt x="3" y="1315"/>
                </a:lnTo>
                <a:lnTo>
                  <a:pt x="9" y="1243"/>
                </a:lnTo>
                <a:lnTo>
                  <a:pt x="18" y="1167"/>
                </a:lnTo>
                <a:lnTo>
                  <a:pt x="28" y="1089"/>
                </a:lnTo>
                <a:lnTo>
                  <a:pt x="38" y="1017"/>
                </a:lnTo>
                <a:lnTo>
                  <a:pt x="47" y="953"/>
                </a:lnTo>
                <a:lnTo>
                  <a:pt x="52" y="905"/>
                </a:lnTo>
              </a:path>
            </a:pathLst>
          </a:custGeom>
          <a:solidFill>
            <a:srgbClr val="ffccff"/>
          </a:solidFill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adro de texto 5"/>
          <p:cNvSpPr/>
          <p:nvPr/>
        </p:nvSpPr>
        <p:spPr>
          <a:xfrm>
            <a:off x="2916360" y="2852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1"/>
          <p:cNvGrpSpPr/>
          <p:nvPr/>
        </p:nvGrpSpPr>
        <p:grpSpPr>
          <a:xfrm>
            <a:off x="539640" y="2637000"/>
            <a:ext cx="2448000" cy="861120"/>
            <a:chOff x="539640" y="2637000"/>
            <a:chExt cx="2448000" cy="861120"/>
          </a:xfrm>
        </p:grpSpPr>
        <p:sp>
          <p:nvSpPr>
            <p:cNvPr id="351" name="Rectángulo 6"/>
            <p:cNvSpPr/>
            <p:nvPr/>
          </p:nvSpPr>
          <p:spPr>
            <a:xfrm>
              <a:off x="539640" y="2637000"/>
              <a:ext cx="1162080" cy="86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ínea 14"/>
            <p:cNvSpPr/>
            <p:nvPr/>
          </p:nvSpPr>
          <p:spPr>
            <a:xfrm>
              <a:off x="1763640" y="2997360"/>
              <a:ext cx="12240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5"/>
          <p:cNvGrpSpPr/>
          <p:nvPr/>
        </p:nvGrpSpPr>
        <p:grpSpPr>
          <a:xfrm>
            <a:off x="4427640" y="3141720"/>
            <a:ext cx="3600360" cy="1859760"/>
            <a:chOff x="4427640" y="3141720"/>
            <a:chExt cx="3600360" cy="1859760"/>
          </a:xfrm>
        </p:grpSpPr>
        <p:sp>
          <p:nvSpPr>
            <p:cNvPr id="354" name="Rectángulo 13"/>
            <p:cNvSpPr/>
            <p:nvPr/>
          </p:nvSpPr>
          <p:spPr>
            <a:xfrm>
              <a:off x="6362640" y="4299120"/>
              <a:ext cx="1665360" cy="70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 en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ínea 15"/>
            <p:cNvSpPr/>
            <p:nvPr/>
          </p:nvSpPr>
          <p:spPr>
            <a:xfrm>
              <a:off x="4427640" y="3141720"/>
              <a:ext cx="19447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34"/>
          <p:cNvGrpSpPr/>
          <p:nvPr/>
        </p:nvGrpSpPr>
        <p:grpSpPr>
          <a:xfrm>
            <a:off x="4500720" y="2781360"/>
            <a:ext cx="2303280" cy="398880"/>
            <a:chOff x="4500720" y="2781360"/>
            <a:chExt cx="2303280" cy="398880"/>
          </a:xfrm>
        </p:grpSpPr>
        <p:sp>
          <p:nvSpPr>
            <p:cNvPr id="357" name="Cuadro de texto 16"/>
            <p:cNvSpPr/>
            <p:nvPr/>
          </p:nvSpPr>
          <p:spPr>
            <a:xfrm>
              <a:off x="4859280" y="2781360"/>
              <a:ext cx="19447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Vía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ínea 17"/>
            <p:cNvSpPr/>
            <p:nvPr/>
          </p:nvSpPr>
          <p:spPr>
            <a:xfrm flipV="1">
              <a:off x="4500720" y="2997360"/>
              <a:ext cx="3585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3"/>
          <p:cNvGrpSpPr/>
          <p:nvPr/>
        </p:nvGrpSpPr>
        <p:grpSpPr>
          <a:xfrm>
            <a:off x="3551400" y="2349360"/>
            <a:ext cx="1368360" cy="574920"/>
            <a:chOff x="3551400" y="2349360"/>
            <a:chExt cx="1368360" cy="574920"/>
          </a:xfrm>
        </p:grpSpPr>
        <p:sp>
          <p:nvSpPr>
            <p:cNvPr id="360" name="Cuadro de texto 18"/>
            <p:cNvSpPr/>
            <p:nvPr/>
          </p:nvSpPr>
          <p:spPr>
            <a:xfrm>
              <a:off x="3551400" y="23493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Glucóge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ínea 19"/>
            <p:cNvSpPr/>
            <p:nvPr/>
          </p:nvSpPr>
          <p:spPr>
            <a:xfrm flipV="1">
              <a:off x="4415040" y="27082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"/>
          <p:cNvGrpSpPr/>
          <p:nvPr/>
        </p:nvGrpSpPr>
        <p:grpSpPr>
          <a:xfrm>
            <a:off x="1971720" y="3123720"/>
            <a:ext cx="1800360" cy="686520"/>
            <a:chOff x="1971720" y="3123720"/>
            <a:chExt cx="1800360" cy="686520"/>
          </a:xfrm>
        </p:grpSpPr>
        <p:sp>
          <p:nvSpPr>
            <p:cNvPr id="363" name="Rectángulo 21"/>
            <p:cNvSpPr/>
            <p:nvPr/>
          </p:nvSpPr>
          <p:spPr>
            <a:xfrm>
              <a:off x="1971720" y="3412800"/>
              <a:ext cx="180036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Glucogen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ínea 22"/>
            <p:cNvSpPr/>
            <p:nvPr/>
          </p:nvSpPr>
          <p:spPr>
            <a:xfrm flipV="1">
              <a:off x="2907000" y="3123720"/>
              <a:ext cx="144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0"/>
          <p:cNvGrpSpPr/>
          <p:nvPr/>
        </p:nvGrpSpPr>
        <p:grpSpPr>
          <a:xfrm>
            <a:off x="130320" y="1268280"/>
            <a:ext cx="8978760" cy="1584360"/>
            <a:chOff x="130320" y="1268280"/>
            <a:chExt cx="8978760" cy="1584360"/>
          </a:xfrm>
        </p:grpSpPr>
        <p:sp>
          <p:nvSpPr>
            <p:cNvPr id="366" name="1 CuadroTexto"/>
            <p:cNvSpPr/>
            <p:nvPr/>
          </p:nvSpPr>
          <p:spPr>
            <a:xfrm>
              <a:off x="130320" y="1268280"/>
              <a:ext cx="897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ecursores de Glucosa </a:t>
              </a:r>
              <a:r>
                <a:rPr b="0" lang="es-MX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lactato y alanina de músculo, glicerol del tej. adiposo 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aac. glucogénicos de la die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268360" y="1916280"/>
              <a:ext cx="93528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6"/>
          <p:cNvGrpSpPr/>
          <p:nvPr/>
        </p:nvGrpSpPr>
        <p:grpSpPr>
          <a:xfrm>
            <a:off x="1187280" y="3211560"/>
            <a:ext cx="6985080" cy="3389400"/>
            <a:chOff x="1187280" y="3211560"/>
            <a:chExt cx="6985080" cy="3389400"/>
          </a:xfrm>
        </p:grpSpPr>
        <p:sp>
          <p:nvSpPr>
            <p:cNvPr id="369" name="Línea 7"/>
            <p:cNvSpPr/>
            <p:nvPr/>
          </p:nvSpPr>
          <p:spPr>
            <a:xfrm>
              <a:off x="4356000" y="3211560"/>
              <a:ext cx="0" cy="863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ángulo 8"/>
            <p:cNvSpPr/>
            <p:nvPr/>
          </p:nvSpPr>
          <p:spPr>
            <a:xfrm>
              <a:off x="3850920" y="4143600"/>
              <a:ext cx="188604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V. Glicolí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Elipse 9"/>
            <p:cNvSpPr/>
            <p:nvPr/>
          </p:nvSpPr>
          <p:spPr>
            <a:xfrm>
              <a:off x="3987720" y="500724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Elipse 10"/>
            <p:cNvSpPr/>
            <p:nvPr/>
          </p:nvSpPr>
          <p:spPr>
            <a:xfrm>
              <a:off x="3981240" y="5943600"/>
              <a:ext cx="1305000" cy="6573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lipse 11"/>
            <p:cNvSpPr/>
            <p:nvPr/>
          </p:nvSpPr>
          <p:spPr>
            <a:xfrm>
              <a:off x="6867360" y="5875560"/>
              <a:ext cx="130500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. de 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ínea 12"/>
            <p:cNvSpPr/>
            <p:nvPr/>
          </p:nvSpPr>
          <p:spPr>
            <a:xfrm>
              <a:off x="5425920" y="6380280"/>
              <a:ext cx="129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ínea 20"/>
            <p:cNvSpPr/>
            <p:nvPr/>
          </p:nvSpPr>
          <p:spPr>
            <a:xfrm>
              <a:off x="4643280" y="573120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ínea 23"/>
            <p:cNvSpPr/>
            <p:nvPr/>
          </p:nvSpPr>
          <p:spPr>
            <a:xfrm flipH="1">
              <a:off x="2771640" y="63072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Elipse 24"/>
            <p:cNvSpPr/>
            <p:nvPr/>
          </p:nvSpPr>
          <p:spPr>
            <a:xfrm>
              <a:off x="1187280" y="5875560"/>
              <a:ext cx="130500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Síntesis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A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ínea 7"/>
            <p:cNvSpPr/>
            <p:nvPr/>
          </p:nvSpPr>
          <p:spPr>
            <a:xfrm>
              <a:off x="4643280" y="4507200"/>
              <a:ext cx="0" cy="50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2470320" y="19080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2"/>
          <p:cNvGrpSpPr/>
          <p:nvPr/>
        </p:nvGrpSpPr>
        <p:grpSpPr>
          <a:xfrm>
            <a:off x="387360" y="1978200"/>
            <a:ext cx="6043680" cy="2346120"/>
            <a:chOff x="387360" y="1978200"/>
            <a:chExt cx="6043680" cy="2346120"/>
          </a:xfrm>
        </p:grpSpPr>
        <p:sp>
          <p:nvSpPr>
            <p:cNvPr id="382" name="Forma libre 2"/>
            <p:cNvSpPr/>
            <p:nvPr/>
          </p:nvSpPr>
          <p:spPr>
            <a:xfrm>
              <a:off x="2138400" y="1978200"/>
              <a:ext cx="4292640" cy="2346120"/>
            </a:xfrm>
            <a:custGeom>
              <a:avLst/>
              <a:gdLst>
                <a:gd name="textAreaLeft" fmla="*/ 0 w 4292640"/>
                <a:gd name="textAreaRight" fmla="*/ 4293000 w 4292640"/>
                <a:gd name="textAreaTop" fmla="*/ 0 h 2346120"/>
                <a:gd name="textAreaBottom" fmla="*/ 2346480 h 2346120"/>
              </a:gdLst>
              <a:ahLst/>
              <a:rect l="textAreaLeft" t="textAreaTop" r="textAreaRight" b="textAreaBottom"/>
              <a:pathLst>
                <a:path w="2704" h="1478">
                  <a:moveTo>
                    <a:pt x="52" y="905"/>
                  </a:moveTo>
                  <a:lnTo>
                    <a:pt x="71" y="837"/>
                  </a:lnTo>
                  <a:lnTo>
                    <a:pt x="86" y="759"/>
                  </a:lnTo>
                  <a:lnTo>
                    <a:pt x="101" y="673"/>
                  </a:lnTo>
                  <a:lnTo>
                    <a:pt x="120" y="584"/>
                  </a:lnTo>
                  <a:lnTo>
                    <a:pt x="144" y="497"/>
                  </a:lnTo>
                  <a:lnTo>
                    <a:pt x="176" y="412"/>
                  </a:lnTo>
                  <a:lnTo>
                    <a:pt x="221" y="336"/>
                  </a:lnTo>
                  <a:lnTo>
                    <a:pt x="279" y="273"/>
                  </a:lnTo>
                  <a:lnTo>
                    <a:pt x="355" y="218"/>
                  </a:lnTo>
                  <a:lnTo>
                    <a:pt x="447" y="168"/>
                  </a:lnTo>
                  <a:lnTo>
                    <a:pt x="552" y="123"/>
                  </a:lnTo>
                  <a:lnTo>
                    <a:pt x="665" y="84"/>
                  </a:lnTo>
                  <a:lnTo>
                    <a:pt x="782" y="52"/>
                  </a:lnTo>
                  <a:lnTo>
                    <a:pt x="899" y="27"/>
                  </a:lnTo>
                  <a:lnTo>
                    <a:pt x="1013" y="9"/>
                  </a:lnTo>
                  <a:lnTo>
                    <a:pt x="1119" y="0"/>
                  </a:lnTo>
                  <a:lnTo>
                    <a:pt x="1222" y="4"/>
                  </a:lnTo>
                  <a:lnTo>
                    <a:pt x="1328" y="21"/>
                  </a:lnTo>
                  <a:lnTo>
                    <a:pt x="1433" y="47"/>
                  </a:lnTo>
                  <a:lnTo>
                    <a:pt x="1537" y="81"/>
                  </a:lnTo>
                  <a:lnTo>
                    <a:pt x="1638" y="117"/>
                  </a:lnTo>
                  <a:lnTo>
                    <a:pt x="1732" y="152"/>
                  </a:lnTo>
                  <a:lnTo>
                    <a:pt x="1820" y="181"/>
                  </a:lnTo>
                  <a:lnTo>
                    <a:pt x="1899" y="202"/>
                  </a:lnTo>
                  <a:lnTo>
                    <a:pt x="1967" y="217"/>
                  </a:lnTo>
                  <a:lnTo>
                    <a:pt x="2025" y="230"/>
                  </a:lnTo>
                  <a:lnTo>
                    <a:pt x="2077" y="240"/>
                  </a:lnTo>
                  <a:lnTo>
                    <a:pt x="2123" y="248"/>
                  </a:lnTo>
                  <a:lnTo>
                    <a:pt x="2209" y="255"/>
                  </a:lnTo>
                  <a:lnTo>
                    <a:pt x="2299" y="251"/>
                  </a:lnTo>
                  <a:lnTo>
                    <a:pt x="2351" y="237"/>
                  </a:lnTo>
                  <a:lnTo>
                    <a:pt x="2409" y="212"/>
                  </a:lnTo>
                  <a:lnTo>
                    <a:pt x="2528" y="150"/>
                  </a:lnTo>
                  <a:lnTo>
                    <a:pt x="2583" y="122"/>
                  </a:lnTo>
                  <a:lnTo>
                    <a:pt x="2630" y="103"/>
                  </a:lnTo>
                  <a:lnTo>
                    <a:pt x="2666" y="99"/>
                  </a:lnTo>
                  <a:lnTo>
                    <a:pt x="2691" y="114"/>
                  </a:lnTo>
                  <a:lnTo>
                    <a:pt x="2697" y="132"/>
                  </a:lnTo>
                  <a:lnTo>
                    <a:pt x="2702" y="155"/>
                  </a:lnTo>
                  <a:lnTo>
                    <a:pt x="2703" y="218"/>
                  </a:lnTo>
                  <a:lnTo>
                    <a:pt x="2694" y="297"/>
                  </a:lnTo>
                  <a:lnTo>
                    <a:pt x="2678" y="383"/>
                  </a:lnTo>
                  <a:lnTo>
                    <a:pt x="2655" y="473"/>
                  </a:lnTo>
                  <a:lnTo>
                    <a:pt x="2626" y="559"/>
                  </a:lnTo>
                  <a:lnTo>
                    <a:pt x="2592" y="634"/>
                  </a:lnTo>
                  <a:lnTo>
                    <a:pt x="2554" y="691"/>
                  </a:lnTo>
                  <a:lnTo>
                    <a:pt x="2507" y="733"/>
                  </a:lnTo>
                  <a:lnTo>
                    <a:pt x="2448" y="766"/>
                  </a:lnTo>
                  <a:lnTo>
                    <a:pt x="2379" y="790"/>
                  </a:lnTo>
                  <a:lnTo>
                    <a:pt x="2306" y="809"/>
                  </a:lnTo>
                  <a:lnTo>
                    <a:pt x="2233" y="825"/>
                  </a:lnTo>
                  <a:lnTo>
                    <a:pt x="2165" y="837"/>
                  </a:lnTo>
                  <a:lnTo>
                    <a:pt x="2105" y="848"/>
                  </a:lnTo>
                  <a:lnTo>
                    <a:pt x="2058" y="859"/>
                  </a:lnTo>
                  <a:lnTo>
                    <a:pt x="2028" y="867"/>
                  </a:lnTo>
                  <a:lnTo>
                    <a:pt x="2013" y="869"/>
                  </a:lnTo>
                  <a:lnTo>
                    <a:pt x="2008" y="868"/>
                  </a:lnTo>
                  <a:lnTo>
                    <a:pt x="2006" y="864"/>
                  </a:lnTo>
                  <a:lnTo>
                    <a:pt x="2003" y="862"/>
                  </a:lnTo>
                  <a:lnTo>
                    <a:pt x="1994" y="863"/>
                  </a:lnTo>
                  <a:lnTo>
                    <a:pt x="1975" y="870"/>
                  </a:lnTo>
                  <a:lnTo>
                    <a:pt x="1938" y="883"/>
                  </a:lnTo>
                  <a:lnTo>
                    <a:pt x="1883" y="906"/>
                  </a:lnTo>
                  <a:lnTo>
                    <a:pt x="1814" y="938"/>
                  </a:lnTo>
                  <a:lnTo>
                    <a:pt x="1734" y="975"/>
                  </a:lnTo>
                  <a:lnTo>
                    <a:pt x="1649" y="1016"/>
                  </a:lnTo>
                  <a:lnTo>
                    <a:pt x="1472" y="1093"/>
                  </a:lnTo>
                  <a:lnTo>
                    <a:pt x="1390" y="1123"/>
                  </a:lnTo>
                  <a:lnTo>
                    <a:pt x="1319" y="1144"/>
                  </a:lnTo>
                  <a:lnTo>
                    <a:pt x="1258" y="1155"/>
                  </a:lnTo>
                  <a:lnTo>
                    <a:pt x="1201" y="1159"/>
                  </a:lnTo>
                  <a:lnTo>
                    <a:pt x="1097" y="1149"/>
                  </a:lnTo>
                  <a:lnTo>
                    <a:pt x="997" y="1134"/>
                  </a:lnTo>
                  <a:lnTo>
                    <a:pt x="947" y="1132"/>
                  </a:lnTo>
                  <a:lnTo>
                    <a:pt x="892" y="1134"/>
                  </a:lnTo>
                  <a:lnTo>
                    <a:pt x="832" y="1142"/>
                  </a:lnTo>
                  <a:lnTo>
                    <a:pt x="768" y="1152"/>
                  </a:lnTo>
                  <a:lnTo>
                    <a:pt x="633" y="1177"/>
                  </a:lnTo>
                  <a:lnTo>
                    <a:pt x="568" y="1192"/>
                  </a:lnTo>
                  <a:lnTo>
                    <a:pt x="508" y="1208"/>
                  </a:lnTo>
                  <a:lnTo>
                    <a:pt x="454" y="1224"/>
                  </a:lnTo>
                  <a:lnTo>
                    <a:pt x="410" y="1242"/>
                  </a:lnTo>
                  <a:lnTo>
                    <a:pt x="376" y="1262"/>
                  </a:lnTo>
                  <a:lnTo>
                    <a:pt x="351" y="1285"/>
                  </a:lnTo>
                  <a:lnTo>
                    <a:pt x="317" y="1334"/>
                  </a:lnTo>
                  <a:lnTo>
                    <a:pt x="294" y="1383"/>
                  </a:lnTo>
                  <a:lnTo>
                    <a:pt x="266" y="1419"/>
                  </a:lnTo>
                  <a:lnTo>
                    <a:pt x="232" y="1441"/>
                  </a:lnTo>
                  <a:lnTo>
                    <a:pt x="200" y="1455"/>
                  </a:lnTo>
                  <a:lnTo>
                    <a:pt x="168" y="1463"/>
                  </a:lnTo>
                  <a:lnTo>
                    <a:pt x="135" y="1465"/>
                  </a:lnTo>
                  <a:lnTo>
                    <a:pt x="98" y="1470"/>
                  </a:lnTo>
                  <a:lnTo>
                    <a:pt x="58" y="1477"/>
                  </a:lnTo>
                  <a:lnTo>
                    <a:pt x="39" y="1474"/>
                  </a:lnTo>
                  <a:lnTo>
                    <a:pt x="23" y="1465"/>
                  </a:lnTo>
                  <a:lnTo>
                    <a:pt x="10" y="1447"/>
                  </a:lnTo>
                  <a:lnTo>
                    <a:pt x="3" y="1419"/>
                  </a:lnTo>
                  <a:lnTo>
                    <a:pt x="0" y="1374"/>
                  </a:lnTo>
                  <a:lnTo>
                    <a:pt x="3" y="1315"/>
                  </a:lnTo>
                  <a:lnTo>
                    <a:pt x="9" y="1243"/>
                  </a:lnTo>
                  <a:lnTo>
                    <a:pt x="18" y="1167"/>
                  </a:lnTo>
                  <a:lnTo>
                    <a:pt x="28" y="1089"/>
                  </a:lnTo>
                  <a:lnTo>
                    <a:pt x="38" y="1017"/>
                  </a:lnTo>
                  <a:lnTo>
                    <a:pt x="47" y="953"/>
                  </a:lnTo>
                  <a:lnTo>
                    <a:pt x="52" y="905"/>
                  </a:lnTo>
                </a:path>
              </a:pathLst>
            </a:custGeom>
            <a:solidFill>
              <a:srgbClr val="ffccff"/>
            </a:solidFill>
            <a:ln cap="rnd"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ángulo 29"/>
            <p:cNvSpPr/>
            <p:nvPr/>
          </p:nvSpPr>
          <p:spPr>
            <a:xfrm>
              <a:off x="2923920" y="2133720"/>
              <a:ext cx="244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Times New Roman"/>
                </a:rPr>
                <a:t>TG y/o CE hepá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ángulo 30"/>
            <p:cNvSpPr/>
            <p:nvPr/>
          </p:nvSpPr>
          <p:spPr>
            <a:xfrm>
              <a:off x="3279240" y="2895480"/>
              <a:ext cx="204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Ácidos gra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ángulo 32"/>
            <p:cNvSpPr/>
            <p:nvPr/>
          </p:nvSpPr>
          <p:spPr>
            <a:xfrm>
              <a:off x="387360" y="2819520"/>
              <a:ext cx="116208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ínea 33"/>
            <p:cNvSpPr/>
            <p:nvPr/>
          </p:nvSpPr>
          <p:spPr>
            <a:xfrm>
              <a:off x="1616040" y="311148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ángulo 34"/>
            <p:cNvSpPr/>
            <p:nvPr/>
          </p:nvSpPr>
          <p:spPr>
            <a:xfrm>
              <a:off x="2619360" y="2530440"/>
              <a:ext cx="297000" cy="13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er i 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1"/>
            <p:cNvSpPr/>
            <p:nvPr/>
          </p:nvSpPr>
          <p:spPr>
            <a:xfrm>
              <a:off x="3995640" y="2492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560" y="775800"/>
            <a:ext cx="889308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Metabolismo de los Ácidos Gras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6"/>
          <p:cNvGrpSpPr/>
          <p:nvPr/>
        </p:nvGrpSpPr>
        <p:grpSpPr>
          <a:xfrm>
            <a:off x="5383080" y="2351160"/>
            <a:ext cx="3196080" cy="783720"/>
            <a:chOff x="5383080" y="2351160"/>
            <a:chExt cx="3196080" cy="783720"/>
          </a:xfrm>
        </p:grpSpPr>
        <p:sp>
          <p:nvSpPr>
            <p:cNvPr id="391" name="Rectángulo 4"/>
            <p:cNvSpPr/>
            <p:nvPr/>
          </p:nvSpPr>
          <p:spPr>
            <a:xfrm>
              <a:off x="6865560" y="2351160"/>
              <a:ext cx="1713600" cy="702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ipoproteí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lasm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ínea 8"/>
            <p:cNvSpPr/>
            <p:nvPr/>
          </p:nvSpPr>
          <p:spPr>
            <a:xfrm flipV="1">
              <a:off x="5383080" y="2754000"/>
              <a:ext cx="13683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8"/>
          <p:cNvGrpSpPr/>
          <p:nvPr/>
        </p:nvGrpSpPr>
        <p:grpSpPr>
          <a:xfrm>
            <a:off x="3124080" y="3471840"/>
            <a:ext cx="3749760" cy="1539360"/>
            <a:chOff x="3124080" y="3471840"/>
            <a:chExt cx="3749760" cy="1539360"/>
          </a:xfrm>
        </p:grpSpPr>
        <p:sp>
          <p:nvSpPr>
            <p:cNvPr id="394" name="Rectángulo 6"/>
            <p:cNvSpPr/>
            <p:nvPr/>
          </p:nvSpPr>
          <p:spPr>
            <a:xfrm>
              <a:off x="5145120" y="3832200"/>
              <a:ext cx="1728720" cy="40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, FAD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ángulo 7"/>
            <p:cNvSpPr/>
            <p:nvPr/>
          </p:nvSpPr>
          <p:spPr>
            <a:xfrm>
              <a:off x="3124080" y="3903840"/>
              <a:ext cx="173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oxida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ángulo 10"/>
            <p:cNvSpPr/>
            <p:nvPr/>
          </p:nvSpPr>
          <p:spPr>
            <a:xfrm>
              <a:off x="3849840" y="4552920"/>
              <a:ext cx="2157120" cy="45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ínea 11"/>
            <p:cNvSpPr/>
            <p:nvPr/>
          </p:nvSpPr>
          <p:spPr>
            <a:xfrm>
              <a:off x="4784760" y="347184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ínea 15"/>
            <p:cNvSpPr/>
            <p:nvPr/>
          </p:nvSpPr>
          <p:spPr>
            <a:xfrm>
              <a:off x="4784760" y="347184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9"/>
          <p:cNvGrpSpPr/>
          <p:nvPr/>
        </p:nvGrpSpPr>
        <p:grpSpPr>
          <a:xfrm>
            <a:off x="3281760" y="5056200"/>
            <a:ext cx="4765320" cy="1089000"/>
            <a:chOff x="3281760" y="5056200"/>
            <a:chExt cx="4765320" cy="1089000"/>
          </a:xfrm>
        </p:grpSpPr>
        <p:grpSp>
          <p:nvGrpSpPr>
            <p:cNvPr id="400" name="Grupo 19"/>
            <p:cNvGrpSpPr/>
            <p:nvPr/>
          </p:nvGrpSpPr>
          <p:grpSpPr>
            <a:xfrm>
              <a:off x="3848040" y="5272200"/>
              <a:ext cx="1952640" cy="873000"/>
              <a:chOff x="3848040" y="5272200"/>
              <a:chExt cx="1952640" cy="873000"/>
            </a:xfrm>
          </p:grpSpPr>
          <p:sp>
            <p:nvSpPr>
              <p:cNvPr id="401" name="Elipse 17"/>
              <p:cNvSpPr/>
              <p:nvPr/>
            </p:nvSpPr>
            <p:spPr>
              <a:xfrm>
                <a:off x="3848040" y="5272200"/>
                <a:ext cx="1952640" cy="8730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ángulo 18"/>
              <p:cNvSpPr/>
              <p:nvPr/>
            </p:nvSpPr>
            <p:spPr>
              <a:xfrm>
                <a:off x="4210200" y="5419800"/>
                <a:ext cx="1326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acido citr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Línea 16"/>
            <p:cNvSpPr/>
            <p:nvPr/>
          </p:nvSpPr>
          <p:spPr>
            <a:xfrm>
              <a:off x="4927680" y="50562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ínea 20"/>
            <p:cNvSpPr/>
            <p:nvPr/>
          </p:nvSpPr>
          <p:spPr>
            <a:xfrm>
              <a:off x="6008760" y="5632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ángulo 24"/>
            <p:cNvSpPr/>
            <p:nvPr/>
          </p:nvSpPr>
          <p:spPr>
            <a:xfrm>
              <a:off x="6656400" y="5416560"/>
              <a:ext cx="109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TP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ángulo 26"/>
            <p:cNvSpPr/>
            <p:nvPr/>
          </p:nvSpPr>
          <p:spPr>
            <a:xfrm>
              <a:off x="7448400" y="5416560"/>
              <a:ext cx="598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ángulo 27"/>
            <p:cNvSpPr/>
            <p:nvPr/>
          </p:nvSpPr>
          <p:spPr>
            <a:xfrm>
              <a:off x="3281760" y="5200560"/>
              <a:ext cx="613080" cy="43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0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0"/>
          <p:cNvGrpSpPr/>
          <p:nvPr/>
        </p:nvGrpSpPr>
        <p:grpSpPr>
          <a:xfrm>
            <a:off x="251280" y="4624560"/>
            <a:ext cx="3503160" cy="1574280"/>
            <a:chOff x="251280" y="4624560"/>
            <a:chExt cx="3503160" cy="1574280"/>
          </a:xfrm>
        </p:grpSpPr>
        <p:sp>
          <p:nvSpPr>
            <p:cNvPr id="409" name="Línea 14"/>
            <p:cNvSpPr/>
            <p:nvPr/>
          </p:nvSpPr>
          <p:spPr>
            <a:xfrm flipH="1">
              <a:off x="2840040" y="48402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ángulo 31"/>
            <p:cNvSpPr/>
            <p:nvPr/>
          </p:nvSpPr>
          <p:spPr>
            <a:xfrm>
              <a:off x="1033560" y="4624560"/>
              <a:ext cx="1593720" cy="397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HMG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ángulo 35"/>
            <p:cNvSpPr/>
            <p:nvPr/>
          </p:nvSpPr>
          <p:spPr>
            <a:xfrm>
              <a:off x="251280" y="5608800"/>
              <a:ext cx="11772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ángulo 36"/>
            <p:cNvSpPr/>
            <p:nvPr/>
          </p:nvSpPr>
          <p:spPr>
            <a:xfrm>
              <a:off x="1687680" y="5557680"/>
              <a:ext cx="1218960" cy="64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uer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ínea 37"/>
            <p:cNvSpPr/>
            <p:nvPr/>
          </p:nvSpPr>
          <p:spPr>
            <a:xfrm flipH="1">
              <a:off x="948960" y="511344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ínea 38"/>
            <p:cNvSpPr/>
            <p:nvPr/>
          </p:nvSpPr>
          <p:spPr>
            <a:xfrm>
              <a:off x="1903320" y="51274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1 CuadroTexto"/>
            <p:cNvSpPr/>
            <p:nvPr/>
          </p:nvSpPr>
          <p:spPr>
            <a:xfrm>
              <a:off x="2917800" y="588312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Ayu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7"/>
          <p:cNvGrpSpPr/>
          <p:nvPr/>
        </p:nvGrpSpPr>
        <p:grpSpPr>
          <a:xfrm>
            <a:off x="5362560" y="3200400"/>
            <a:ext cx="3705120" cy="1605600"/>
            <a:chOff x="5362560" y="3200400"/>
            <a:chExt cx="3705120" cy="1605600"/>
          </a:xfrm>
        </p:grpSpPr>
        <p:sp>
          <p:nvSpPr>
            <p:cNvPr id="417" name="Rectángulo 5"/>
            <p:cNvSpPr/>
            <p:nvPr/>
          </p:nvSpPr>
          <p:spPr>
            <a:xfrm>
              <a:off x="6909120" y="3200400"/>
              <a:ext cx="215856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Ácidos gras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ibres en la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ínea 9"/>
            <p:cNvSpPr/>
            <p:nvPr/>
          </p:nvSpPr>
          <p:spPr>
            <a:xfrm>
              <a:off x="5362560" y="3230640"/>
              <a:ext cx="1371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2 CuadroTexto"/>
            <p:cNvSpPr/>
            <p:nvPr/>
          </p:nvSpPr>
          <p:spPr>
            <a:xfrm>
              <a:off x="7244640" y="4468680"/>
              <a:ext cx="15066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4 Conector recto de flecha"/>
            <p:cNvCxnSpPr/>
            <p:nvPr/>
          </p:nvCxnSpPr>
          <p:spPr>
            <a:xfrm>
              <a:off x="7984800" y="4014720"/>
              <a:ext cx="1080" cy="300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21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53"/>
          <p:cNvGrpSpPr/>
          <p:nvPr/>
        </p:nvGrpSpPr>
        <p:grpSpPr>
          <a:xfrm>
            <a:off x="700200" y="2577960"/>
            <a:ext cx="6183360" cy="2346480"/>
            <a:chOff x="700200" y="2577960"/>
            <a:chExt cx="6183360" cy="2346480"/>
          </a:xfrm>
        </p:grpSpPr>
        <p:sp>
          <p:nvSpPr>
            <p:cNvPr id="423" name="Forma libre 2"/>
            <p:cNvSpPr/>
            <p:nvPr/>
          </p:nvSpPr>
          <p:spPr>
            <a:xfrm>
              <a:off x="2590920" y="2577960"/>
              <a:ext cx="4292640" cy="2346480"/>
            </a:xfrm>
            <a:custGeom>
              <a:avLst/>
              <a:gdLst>
                <a:gd name="textAreaLeft" fmla="*/ 0 w 4292640"/>
                <a:gd name="textAreaRight" fmla="*/ 4293000 w 429264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2704" h="1478">
                  <a:moveTo>
                    <a:pt x="52" y="905"/>
                  </a:moveTo>
                  <a:lnTo>
                    <a:pt x="71" y="837"/>
                  </a:lnTo>
                  <a:lnTo>
                    <a:pt x="86" y="759"/>
                  </a:lnTo>
                  <a:lnTo>
                    <a:pt x="101" y="673"/>
                  </a:lnTo>
                  <a:lnTo>
                    <a:pt x="120" y="584"/>
                  </a:lnTo>
                  <a:lnTo>
                    <a:pt x="144" y="497"/>
                  </a:lnTo>
                  <a:lnTo>
                    <a:pt x="176" y="412"/>
                  </a:lnTo>
                  <a:lnTo>
                    <a:pt x="221" y="336"/>
                  </a:lnTo>
                  <a:lnTo>
                    <a:pt x="279" y="273"/>
                  </a:lnTo>
                  <a:lnTo>
                    <a:pt x="355" y="218"/>
                  </a:lnTo>
                  <a:lnTo>
                    <a:pt x="447" y="168"/>
                  </a:lnTo>
                  <a:lnTo>
                    <a:pt x="552" y="123"/>
                  </a:lnTo>
                  <a:lnTo>
                    <a:pt x="665" y="84"/>
                  </a:lnTo>
                  <a:lnTo>
                    <a:pt x="782" y="52"/>
                  </a:lnTo>
                  <a:lnTo>
                    <a:pt x="899" y="27"/>
                  </a:lnTo>
                  <a:lnTo>
                    <a:pt x="1013" y="9"/>
                  </a:lnTo>
                  <a:lnTo>
                    <a:pt x="1119" y="0"/>
                  </a:lnTo>
                  <a:lnTo>
                    <a:pt x="1222" y="4"/>
                  </a:lnTo>
                  <a:lnTo>
                    <a:pt x="1328" y="21"/>
                  </a:lnTo>
                  <a:lnTo>
                    <a:pt x="1433" y="47"/>
                  </a:lnTo>
                  <a:lnTo>
                    <a:pt x="1537" y="81"/>
                  </a:lnTo>
                  <a:lnTo>
                    <a:pt x="1638" y="117"/>
                  </a:lnTo>
                  <a:lnTo>
                    <a:pt x="1732" y="152"/>
                  </a:lnTo>
                  <a:lnTo>
                    <a:pt x="1820" y="181"/>
                  </a:lnTo>
                  <a:lnTo>
                    <a:pt x="1899" y="202"/>
                  </a:lnTo>
                  <a:lnTo>
                    <a:pt x="1967" y="217"/>
                  </a:lnTo>
                  <a:lnTo>
                    <a:pt x="2025" y="230"/>
                  </a:lnTo>
                  <a:lnTo>
                    <a:pt x="2077" y="240"/>
                  </a:lnTo>
                  <a:lnTo>
                    <a:pt x="2123" y="248"/>
                  </a:lnTo>
                  <a:lnTo>
                    <a:pt x="2209" y="255"/>
                  </a:lnTo>
                  <a:lnTo>
                    <a:pt x="2299" y="251"/>
                  </a:lnTo>
                  <a:lnTo>
                    <a:pt x="2351" y="237"/>
                  </a:lnTo>
                  <a:lnTo>
                    <a:pt x="2409" y="212"/>
                  </a:lnTo>
                  <a:lnTo>
                    <a:pt x="2528" y="150"/>
                  </a:lnTo>
                  <a:lnTo>
                    <a:pt x="2583" y="122"/>
                  </a:lnTo>
                  <a:lnTo>
                    <a:pt x="2630" y="103"/>
                  </a:lnTo>
                  <a:lnTo>
                    <a:pt x="2666" y="99"/>
                  </a:lnTo>
                  <a:lnTo>
                    <a:pt x="2691" y="114"/>
                  </a:lnTo>
                  <a:lnTo>
                    <a:pt x="2697" y="132"/>
                  </a:lnTo>
                  <a:lnTo>
                    <a:pt x="2702" y="155"/>
                  </a:lnTo>
                  <a:lnTo>
                    <a:pt x="2703" y="218"/>
                  </a:lnTo>
                  <a:lnTo>
                    <a:pt x="2694" y="297"/>
                  </a:lnTo>
                  <a:lnTo>
                    <a:pt x="2678" y="383"/>
                  </a:lnTo>
                  <a:lnTo>
                    <a:pt x="2655" y="473"/>
                  </a:lnTo>
                  <a:lnTo>
                    <a:pt x="2626" y="559"/>
                  </a:lnTo>
                  <a:lnTo>
                    <a:pt x="2592" y="634"/>
                  </a:lnTo>
                  <a:lnTo>
                    <a:pt x="2554" y="691"/>
                  </a:lnTo>
                  <a:lnTo>
                    <a:pt x="2507" y="733"/>
                  </a:lnTo>
                  <a:lnTo>
                    <a:pt x="2448" y="766"/>
                  </a:lnTo>
                  <a:lnTo>
                    <a:pt x="2379" y="790"/>
                  </a:lnTo>
                  <a:lnTo>
                    <a:pt x="2306" y="809"/>
                  </a:lnTo>
                  <a:lnTo>
                    <a:pt x="2233" y="825"/>
                  </a:lnTo>
                  <a:lnTo>
                    <a:pt x="2165" y="837"/>
                  </a:lnTo>
                  <a:lnTo>
                    <a:pt x="2105" y="848"/>
                  </a:lnTo>
                  <a:lnTo>
                    <a:pt x="2058" y="859"/>
                  </a:lnTo>
                  <a:lnTo>
                    <a:pt x="2028" y="867"/>
                  </a:lnTo>
                  <a:lnTo>
                    <a:pt x="2013" y="869"/>
                  </a:lnTo>
                  <a:lnTo>
                    <a:pt x="2008" y="868"/>
                  </a:lnTo>
                  <a:lnTo>
                    <a:pt x="2006" y="864"/>
                  </a:lnTo>
                  <a:lnTo>
                    <a:pt x="2003" y="862"/>
                  </a:lnTo>
                  <a:lnTo>
                    <a:pt x="1994" y="863"/>
                  </a:lnTo>
                  <a:lnTo>
                    <a:pt x="1975" y="870"/>
                  </a:lnTo>
                  <a:lnTo>
                    <a:pt x="1938" y="883"/>
                  </a:lnTo>
                  <a:lnTo>
                    <a:pt x="1883" y="906"/>
                  </a:lnTo>
                  <a:lnTo>
                    <a:pt x="1814" y="938"/>
                  </a:lnTo>
                  <a:lnTo>
                    <a:pt x="1734" y="975"/>
                  </a:lnTo>
                  <a:lnTo>
                    <a:pt x="1649" y="1016"/>
                  </a:lnTo>
                  <a:lnTo>
                    <a:pt x="1472" y="1093"/>
                  </a:lnTo>
                  <a:lnTo>
                    <a:pt x="1390" y="1123"/>
                  </a:lnTo>
                  <a:lnTo>
                    <a:pt x="1319" y="1144"/>
                  </a:lnTo>
                  <a:lnTo>
                    <a:pt x="1258" y="1155"/>
                  </a:lnTo>
                  <a:lnTo>
                    <a:pt x="1201" y="1159"/>
                  </a:lnTo>
                  <a:lnTo>
                    <a:pt x="1097" y="1149"/>
                  </a:lnTo>
                  <a:lnTo>
                    <a:pt x="997" y="1134"/>
                  </a:lnTo>
                  <a:lnTo>
                    <a:pt x="947" y="1132"/>
                  </a:lnTo>
                  <a:lnTo>
                    <a:pt x="892" y="1134"/>
                  </a:lnTo>
                  <a:lnTo>
                    <a:pt x="832" y="1142"/>
                  </a:lnTo>
                  <a:lnTo>
                    <a:pt x="768" y="1152"/>
                  </a:lnTo>
                  <a:lnTo>
                    <a:pt x="633" y="1177"/>
                  </a:lnTo>
                  <a:lnTo>
                    <a:pt x="568" y="1192"/>
                  </a:lnTo>
                  <a:lnTo>
                    <a:pt x="508" y="1208"/>
                  </a:lnTo>
                  <a:lnTo>
                    <a:pt x="454" y="1224"/>
                  </a:lnTo>
                  <a:lnTo>
                    <a:pt x="410" y="1242"/>
                  </a:lnTo>
                  <a:lnTo>
                    <a:pt x="376" y="1262"/>
                  </a:lnTo>
                  <a:lnTo>
                    <a:pt x="351" y="1285"/>
                  </a:lnTo>
                  <a:lnTo>
                    <a:pt x="317" y="1334"/>
                  </a:lnTo>
                  <a:lnTo>
                    <a:pt x="294" y="1383"/>
                  </a:lnTo>
                  <a:lnTo>
                    <a:pt x="266" y="1419"/>
                  </a:lnTo>
                  <a:lnTo>
                    <a:pt x="232" y="1441"/>
                  </a:lnTo>
                  <a:lnTo>
                    <a:pt x="200" y="1455"/>
                  </a:lnTo>
                  <a:lnTo>
                    <a:pt x="168" y="1463"/>
                  </a:lnTo>
                  <a:lnTo>
                    <a:pt x="135" y="1465"/>
                  </a:lnTo>
                  <a:lnTo>
                    <a:pt x="98" y="1470"/>
                  </a:lnTo>
                  <a:lnTo>
                    <a:pt x="58" y="1477"/>
                  </a:lnTo>
                  <a:lnTo>
                    <a:pt x="39" y="1474"/>
                  </a:lnTo>
                  <a:lnTo>
                    <a:pt x="23" y="1465"/>
                  </a:lnTo>
                  <a:lnTo>
                    <a:pt x="10" y="1447"/>
                  </a:lnTo>
                  <a:lnTo>
                    <a:pt x="3" y="1419"/>
                  </a:lnTo>
                  <a:lnTo>
                    <a:pt x="0" y="1374"/>
                  </a:lnTo>
                  <a:lnTo>
                    <a:pt x="3" y="1315"/>
                  </a:lnTo>
                  <a:lnTo>
                    <a:pt x="9" y="1243"/>
                  </a:lnTo>
                  <a:lnTo>
                    <a:pt x="18" y="1167"/>
                  </a:lnTo>
                  <a:lnTo>
                    <a:pt x="28" y="1089"/>
                  </a:lnTo>
                  <a:lnTo>
                    <a:pt x="38" y="1017"/>
                  </a:lnTo>
                  <a:lnTo>
                    <a:pt x="47" y="953"/>
                  </a:lnTo>
                  <a:lnTo>
                    <a:pt x="52" y="905"/>
                  </a:lnTo>
                </a:path>
              </a:pathLst>
            </a:custGeom>
            <a:solidFill>
              <a:srgbClr val="ffccff"/>
            </a:solidFill>
            <a:ln cap="rnd"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ángulo 6"/>
            <p:cNvSpPr/>
            <p:nvPr/>
          </p:nvSpPr>
          <p:spPr>
            <a:xfrm>
              <a:off x="4543560" y="2698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ángulo 8"/>
            <p:cNvSpPr/>
            <p:nvPr/>
          </p:nvSpPr>
          <p:spPr>
            <a:xfrm>
              <a:off x="2959200" y="3800520"/>
              <a:ext cx="228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ángulo 9"/>
            <p:cNvSpPr/>
            <p:nvPr/>
          </p:nvSpPr>
          <p:spPr>
            <a:xfrm>
              <a:off x="4013280" y="3208320"/>
              <a:ext cx="16048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Aminoácidos en el 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ángulo 44"/>
            <p:cNvSpPr/>
            <p:nvPr/>
          </p:nvSpPr>
          <p:spPr>
            <a:xfrm>
              <a:off x="771480" y="2990880"/>
              <a:ext cx="1728720" cy="70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ínea 45"/>
            <p:cNvSpPr/>
            <p:nvPr/>
          </p:nvSpPr>
          <p:spPr>
            <a:xfrm>
              <a:off x="2500200" y="3351240"/>
              <a:ext cx="1440000" cy="216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ángulo 46"/>
            <p:cNvSpPr/>
            <p:nvPr/>
          </p:nvSpPr>
          <p:spPr>
            <a:xfrm>
              <a:off x="700200" y="3855960"/>
              <a:ext cx="1728720" cy="100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minoácidos Proteínas mus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ínea 47"/>
            <p:cNvSpPr/>
            <p:nvPr/>
          </p:nvSpPr>
          <p:spPr>
            <a:xfrm flipV="1">
              <a:off x="2500200" y="3927240"/>
              <a:ext cx="1368360" cy="431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328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etabolismo de los Aminoácid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8"/>
          <p:cNvGrpSpPr/>
          <p:nvPr/>
        </p:nvGrpSpPr>
        <p:grpSpPr>
          <a:xfrm>
            <a:off x="3871080" y="1841400"/>
            <a:ext cx="2301840" cy="1292040"/>
            <a:chOff x="3871080" y="1841400"/>
            <a:chExt cx="2301840" cy="1292040"/>
          </a:xfrm>
        </p:grpSpPr>
        <p:sp>
          <p:nvSpPr>
            <p:cNvPr id="433" name="Rectángulo 4"/>
            <p:cNvSpPr/>
            <p:nvPr/>
          </p:nvSpPr>
          <p:spPr>
            <a:xfrm>
              <a:off x="3871080" y="1841400"/>
              <a:ext cx="2301840" cy="39744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Times New Roman"/>
                </a:rPr>
                <a:t>Proteínas hep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ínea 12"/>
            <p:cNvSpPr/>
            <p:nvPr/>
          </p:nvSpPr>
          <p:spPr>
            <a:xfrm flipV="1">
              <a:off x="4732200" y="2341080"/>
              <a:ext cx="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49"/>
          <p:cNvGrpSpPr/>
          <p:nvPr/>
        </p:nvGrpSpPr>
        <p:grpSpPr>
          <a:xfrm>
            <a:off x="5738760" y="1913040"/>
            <a:ext cx="2737080" cy="1366560"/>
            <a:chOff x="5738760" y="1913040"/>
            <a:chExt cx="2737080" cy="1366560"/>
          </a:xfrm>
        </p:grpSpPr>
        <p:sp>
          <p:nvSpPr>
            <p:cNvPr id="436" name="Rectángulo 7"/>
            <p:cNvSpPr/>
            <p:nvPr/>
          </p:nvSpPr>
          <p:spPr>
            <a:xfrm>
              <a:off x="6966000" y="1913040"/>
              <a:ext cx="150984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Proteínas plasm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ínea 13"/>
            <p:cNvSpPr/>
            <p:nvPr/>
          </p:nvSpPr>
          <p:spPr>
            <a:xfrm flipV="1">
              <a:off x="5738760" y="2416320"/>
              <a:ext cx="104616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50"/>
          <p:cNvGrpSpPr/>
          <p:nvPr/>
        </p:nvGrpSpPr>
        <p:grpSpPr>
          <a:xfrm>
            <a:off x="5956200" y="2921040"/>
            <a:ext cx="2511360" cy="702360"/>
            <a:chOff x="5956200" y="2921040"/>
            <a:chExt cx="2511360" cy="702360"/>
          </a:xfrm>
        </p:grpSpPr>
        <p:sp>
          <p:nvSpPr>
            <p:cNvPr id="439" name="Rectángulo 11"/>
            <p:cNvSpPr/>
            <p:nvPr/>
          </p:nvSpPr>
          <p:spPr>
            <a:xfrm>
              <a:off x="7185240" y="2921040"/>
              <a:ext cx="128232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Proteí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tis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ínea 14"/>
            <p:cNvSpPr/>
            <p:nvPr/>
          </p:nvSpPr>
          <p:spPr>
            <a:xfrm flipV="1">
              <a:off x="5956200" y="3422160"/>
              <a:ext cx="11527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51"/>
          <p:cNvGrpSpPr/>
          <p:nvPr/>
        </p:nvGrpSpPr>
        <p:grpSpPr>
          <a:xfrm>
            <a:off x="5956200" y="3711600"/>
            <a:ext cx="2517840" cy="1078560"/>
            <a:chOff x="5956200" y="3711600"/>
            <a:chExt cx="2517840" cy="1078560"/>
          </a:xfrm>
        </p:grpSpPr>
        <p:sp>
          <p:nvSpPr>
            <p:cNvPr id="442" name="Rectángulo 10"/>
            <p:cNvSpPr/>
            <p:nvPr/>
          </p:nvSpPr>
          <p:spPr>
            <a:xfrm>
              <a:off x="6821640" y="3782880"/>
              <a:ext cx="1652400" cy="100728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ff"/>
                  </a:solidFill>
                  <a:latin typeface="Times New Roman"/>
                </a:rPr>
                <a:t>Aminoácidos                       en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ínea 15"/>
            <p:cNvSpPr/>
            <p:nvPr/>
          </p:nvSpPr>
          <p:spPr>
            <a:xfrm>
              <a:off x="5956200" y="3711600"/>
              <a:ext cx="72072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7"/>
          <p:cNvGrpSpPr/>
          <p:nvPr/>
        </p:nvGrpSpPr>
        <p:grpSpPr>
          <a:xfrm>
            <a:off x="1276200" y="1766880"/>
            <a:ext cx="2592000" cy="1368000"/>
            <a:chOff x="1276200" y="1766880"/>
            <a:chExt cx="2592000" cy="1368000"/>
          </a:xfrm>
        </p:grpSpPr>
        <p:sp>
          <p:nvSpPr>
            <p:cNvPr id="445" name="Rectángulo 5"/>
            <p:cNvSpPr/>
            <p:nvPr/>
          </p:nvSpPr>
          <p:spPr>
            <a:xfrm>
              <a:off x="1276200" y="1766880"/>
              <a:ext cx="1581480" cy="100728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imes New Roman"/>
                </a:rPr>
                <a:t>Nucleótidos Hormo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imes New Roman"/>
                </a:rPr>
                <a:t>Porfir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ínea 16"/>
            <p:cNvSpPr/>
            <p:nvPr/>
          </p:nvSpPr>
          <p:spPr>
            <a:xfrm flipH="1" flipV="1">
              <a:off x="2931840" y="2558520"/>
              <a:ext cx="93636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2"/>
          <p:cNvGrpSpPr/>
          <p:nvPr/>
        </p:nvGrpSpPr>
        <p:grpSpPr>
          <a:xfrm>
            <a:off x="520560" y="4216320"/>
            <a:ext cx="7944480" cy="2452680"/>
            <a:chOff x="520560" y="4216320"/>
            <a:chExt cx="7944480" cy="2452680"/>
          </a:xfrm>
        </p:grpSpPr>
        <p:sp>
          <p:nvSpPr>
            <p:cNvPr id="448" name="Línea 43"/>
            <p:cNvSpPr/>
            <p:nvPr/>
          </p:nvSpPr>
          <p:spPr>
            <a:xfrm>
              <a:off x="4732200" y="4575240"/>
              <a:ext cx="100836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ínea 48"/>
            <p:cNvSpPr/>
            <p:nvPr/>
          </p:nvSpPr>
          <p:spPr>
            <a:xfrm flipH="1">
              <a:off x="3652920" y="5583240"/>
              <a:ext cx="1944720" cy="730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ángulo 19"/>
            <p:cNvSpPr/>
            <p:nvPr/>
          </p:nvSpPr>
          <p:spPr>
            <a:xfrm>
              <a:off x="5425200" y="4648320"/>
              <a:ext cx="595080" cy="40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ínea 20"/>
            <p:cNvSpPr/>
            <p:nvPr/>
          </p:nvSpPr>
          <p:spPr>
            <a:xfrm>
              <a:off x="6100920" y="48639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ángulo 21"/>
            <p:cNvSpPr/>
            <p:nvPr/>
          </p:nvSpPr>
          <p:spPr>
            <a:xfrm>
              <a:off x="6388200" y="4719600"/>
              <a:ext cx="71892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ángulo 22"/>
            <p:cNvSpPr/>
            <p:nvPr/>
          </p:nvSpPr>
          <p:spPr>
            <a:xfrm>
              <a:off x="520560" y="5008680"/>
              <a:ext cx="1760760" cy="70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ucógeno en el músc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ángulo 23"/>
            <p:cNvSpPr/>
            <p:nvPr/>
          </p:nvSpPr>
          <p:spPr>
            <a:xfrm>
              <a:off x="2575440" y="5224320"/>
              <a:ext cx="1062720" cy="39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ínea 24"/>
            <p:cNvSpPr/>
            <p:nvPr/>
          </p:nvSpPr>
          <p:spPr>
            <a:xfrm flipH="1">
              <a:off x="3652560" y="5440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ínea 25"/>
            <p:cNvSpPr/>
            <p:nvPr/>
          </p:nvSpPr>
          <p:spPr>
            <a:xfrm flipH="1" flipV="1">
              <a:off x="2284560" y="5438880"/>
              <a:ext cx="28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ínea 26"/>
            <p:cNvSpPr/>
            <p:nvPr/>
          </p:nvSpPr>
          <p:spPr>
            <a:xfrm>
              <a:off x="4587840" y="5727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ángulo 31"/>
            <p:cNvSpPr/>
            <p:nvPr/>
          </p:nvSpPr>
          <p:spPr>
            <a:xfrm>
              <a:off x="7897320" y="5511960"/>
              <a:ext cx="5677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ínea 35"/>
            <p:cNvSpPr/>
            <p:nvPr/>
          </p:nvSpPr>
          <p:spPr>
            <a:xfrm>
              <a:off x="7108920" y="5727600"/>
              <a:ext cx="57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ángulo 36"/>
            <p:cNvSpPr/>
            <p:nvPr/>
          </p:nvSpPr>
          <p:spPr>
            <a:xfrm>
              <a:off x="3868560" y="4216320"/>
              <a:ext cx="1522440" cy="305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Times New Roman"/>
                </a:rPr>
                <a:t>DEGRAD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Elipse 37"/>
            <p:cNvSpPr/>
            <p:nvPr/>
          </p:nvSpPr>
          <p:spPr>
            <a:xfrm>
              <a:off x="3940200" y="5079960"/>
              <a:ext cx="1305000" cy="6573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Elipse 38"/>
            <p:cNvSpPr/>
            <p:nvPr/>
          </p:nvSpPr>
          <p:spPr>
            <a:xfrm>
              <a:off x="3935520" y="601200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Elipse 39"/>
            <p:cNvSpPr/>
            <p:nvPr/>
          </p:nvSpPr>
          <p:spPr>
            <a:xfrm>
              <a:off x="5740560" y="529596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ICLO 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ínea 40"/>
            <p:cNvSpPr/>
            <p:nvPr/>
          </p:nvSpPr>
          <p:spPr>
            <a:xfrm flipV="1">
              <a:off x="5237280" y="5872320"/>
              <a:ext cx="5032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forma 49"/>
            <p:cNvSpPr/>
            <p:nvPr/>
          </p:nvSpPr>
          <p:spPr>
            <a:xfrm rot="5943600">
              <a:off x="5416200" y="4317840"/>
              <a:ext cx="289080" cy="216000"/>
            </a:xfrm>
            <a:custGeom>
              <a:avLst/>
              <a:gdLst>
                <a:gd name="textAreaLeft" fmla="*/ 166680 w 289080"/>
                <a:gd name="textAreaRight" fmla="*/ 244800 w 289080"/>
                <a:gd name="textAreaTop" fmla="*/ 28440 h 216000"/>
                <a:gd name="textAreaBottom" fmla="*/ 921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ínea 50"/>
            <p:cNvSpPr/>
            <p:nvPr/>
          </p:nvSpPr>
          <p:spPr>
            <a:xfrm>
              <a:off x="4516560" y="4648320"/>
              <a:ext cx="0" cy="28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 CuadroTexto"/>
          <p:cNvSpPr/>
          <p:nvPr/>
        </p:nvSpPr>
        <p:spPr>
          <a:xfrm>
            <a:off x="468360" y="10587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El hígado prefiere como combustible los </a:t>
            </a:r>
            <a:r>
              <a:rPr b="1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cetoácidos derivados de la degradación de AAs antes que la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71560" y="907920"/>
            <a:ext cx="13968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716200" y="907920"/>
            <a:ext cx="5526360" cy="1815840"/>
            <a:chOff x="2716200" y="907920"/>
            <a:chExt cx="5526360" cy="1815840"/>
          </a:xfrm>
        </p:grpSpPr>
        <p:sp>
          <p:nvSpPr>
            <p:cNvPr id="68" name="AutoShape 4"/>
            <p:cNvSpPr/>
            <p:nvPr/>
          </p:nvSpPr>
          <p:spPr>
            <a:xfrm>
              <a:off x="2716200" y="1052280"/>
              <a:ext cx="3886200" cy="1295640"/>
            </a:xfrm>
            <a:prstGeom prst="rightArrow">
              <a:avLst>
                <a:gd name="adj1" fmla="val 45657"/>
                <a:gd name="adj2" fmla="val 55976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7132320" y="907920"/>
              <a:ext cx="111024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" sz="1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" sz="1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" sz="12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6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400" spc="-1" strike="noStrike" baseline="26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P+HPO</a:t>
            </a:r>
            <a:r>
              <a:rPr b="1" lang="es-ES" sz="1400" spc="-1" strike="noStrike" baseline="-18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2916360" y="2060640"/>
            <a:ext cx="3623040" cy="1942920"/>
            <a:chOff x="2916360" y="2060640"/>
            <a:chExt cx="3623040" cy="1942920"/>
          </a:xfrm>
        </p:grpSpPr>
        <p:grpSp>
          <p:nvGrpSpPr>
            <p:cNvPr id="72" name="Group 8"/>
            <p:cNvGrpSpPr/>
            <p:nvPr/>
          </p:nvGrpSpPr>
          <p:grpSpPr>
            <a:xfrm>
              <a:off x="4354560" y="2708280"/>
              <a:ext cx="2184840" cy="1295280"/>
              <a:chOff x="4354560" y="2708280"/>
              <a:chExt cx="2184840" cy="1295280"/>
            </a:xfrm>
          </p:grpSpPr>
          <p:sp>
            <p:nvSpPr>
              <p:cNvPr id="73" name="Oval 9"/>
              <p:cNvSpPr/>
              <p:nvPr/>
            </p:nvSpPr>
            <p:spPr>
              <a:xfrm>
                <a:off x="4354560" y="2708280"/>
                <a:ext cx="1296000" cy="1295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s-ES" sz="1400" spc="-1" strike="noStrike" baseline="-18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0"/>
              <p:cNvSpPr/>
              <p:nvPr/>
            </p:nvSpPr>
            <p:spPr>
              <a:xfrm>
                <a:off x="5654520" y="3066480"/>
                <a:ext cx="88488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1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2"/>
          <p:cNvSpPr/>
          <p:nvPr/>
        </p:nvSpPr>
        <p:spPr>
          <a:xfrm>
            <a:off x="6513120" y="4149720"/>
            <a:ext cx="187236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Arial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533160" y="4076640"/>
            <a:ext cx="5692680" cy="1729800"/>
            <a:chOff x="533160" y="4076640"/>
            <a:chExt cx="5692680" cy="1729800"/>
          </a:xfrm>
        </p:grpSpPr>
        <p:sp>
          <p:nvSpPr>
            <p:cNvPr id="78" name="AutoShape 14"/>
            <p:cNvSpPr/>
            <p:nvPr/>
          </p:nvSpPr>
          <p:spPr>
            <a:xfrm>
              <a:off x="2194920" y="4365360"/>
              <a:ext cx="4030920" cy="1366920"/>
            </a:xfrm>
            <a:prstGeom prst="leftArrow">
              <a:avLst>
                <a:gd name="adj1" fmla="val 41296"/>
                <a:gd name="adj2" fmla="val 56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533160" y="4220640"/>
              <a:ext cx="166500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6"/>
            <p:cNvSpPr/>
            <p:nvPr/>
          </p:nvSpPr>
          <p:spPr>
            <a:xfrm flipH="1">
              <a:off x="2841840" y="4076640"/>
              <a:ext cx="2375640" cy="646920"/>
            </a:xfrm>
            <a:custGeom>
              <a:avLst/>
              <a:gdLst>
                <a:gd name="textAreaLeft" fmla="*/ 415440 w 2375640"/>
                <a:gd name="textAreaRight" fmla="*/ 1722240 w 2375640"/>
                <a:gd name="textAreaTop" fmla="*/ 86400 h 646920"/>
                <a:gd name="textAreaBottom" fmla="*/ 56052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6140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Arial"/>
              </a:rPr>
              <a:t>Síntesis y degradación de triglicéridos en TEJIDO ADI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525680" y="1373040"/>
            <a:ext cx="18255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4878360" y="1449360"/>
            <a:ext cx="176544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286000" y="2971800"/>
            <a:ext cx="118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267080" y="2819520"/>
            <a:ext cx="18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2124000" y="3573360"/>
            <a:ext cx="128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icero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4648320" y="380988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3126240" y="4344840"/>
            <a:ext cx="197712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RI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2819520" y="5181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3997080" y="510552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1909800" y="6094440"/>
            <a:ext cx="10191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5653080" y="6094440"/>
            <a:ext cx="2633760" cy="641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Complejos ácido graso-albú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28954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533412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4320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1814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 flipH="1">
            <a:off x="2587320" y="5484960"/>
            <a:ext cx="64764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5148360" y="5445000"/>
            <a:ext cx="4316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 flipH="1">
            <a:off x="3048120" y="480060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48006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2"/>
          <p:cNvSpPr/>
          <p:nvPr/>
        </p:nvSpPr>
        <p:spPr>
          <a:xfrm>
            <a:off x="1747800" y="2281320"/>
            <a:ext cx="4657680" cy="359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3"/>
          <p:cNvSpPr/>
          <p:nvPr/>
        </p:nvSpPr>
        <p:spPr>
          <a:xfrm>
            <a:off x="3559320" y="601668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Conector recto de flecha 2"/>
          <p:cNvCxnSpPr>
            <a:stCxn id="474" idx="3"/>
          </p:cNvCxnSpPr>
          <p:nvPr/>
        </p:nvCxnSpPr>
        <p:spPr>
          <a:xfrm>
            <a:off x="3408120" y="3894120"/>
            <a:ext cx="587880" cy="45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4" name="Conector recto de flecha 27"/>
          <p:cNvCxnSpPr/>
          <p:nvPr/>
        </p:nvCxnSpPr>
        <p:spPr>
          <a:xfrm flipH="1">
            <a:off x="4266360" y="4005000"/>
            <a:ext cx="521640" cy="34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69520" cy="453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212760" y="1793880"/>
            <a:ext cx="2378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idad lig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p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16040" y="1525680"/>
            <a:ext cx="155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335560" y="1830240"/>
            <a:ext cx="121608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571680" y="2668680"/>
            <a:ext cx="271440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"/>
              </a:rPr>
              <a:t>Cuerpos ceto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Glucosa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019920" y="2895480"/>
            <a:ext cx="76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959560" y="4192560"/>
            <a:ext cx="111168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P+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5259240" y="4192560"/>
            <a:ext cx="8352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680160" y="1814400"/>
            <a:ext cx="2320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4"/>
          <p:cNvSpPr/>
          <p:nvPr/>
        </p:nvSpPr>
        <p:spPr>
          <a:xfrm>
            <a:off x="3733920" y="2287440"/>
            <a:ext cx="2184120" cy="83844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376" h="528">
                <a:moveTo>
                  <a:pt x="0" y="0"/>
                </a:moveTo>
                <a:lnTo>
                  <a:pt x="3" y="53"/>
                </a:lnTo>
                <a:lnTo>
                  <a:pt x="12" y="106"/>
                </a:lnTo>
                <a:lnTo>
                  <a:pt x="26" y="156"/>
                </a:lnTo>
                <a:lnTo>
                  <a:pt x="45" y="205"/>
                </a:lnTo>
                <a:lnTo>
                  <a:pt x="69" y="251"/>
                </a:lnTo>
                <a:lnTo>
                  <a:pt x="97" y="294"/>
                </a:lnTo>
                <a:lnTo>
                  <a:pt x="130" y="335"/>
                </a:lnTo>
                <a:lnTo>
                  <a:pt x="167" y="372"/>
                </a:lnTo>
                <a:lnTo>
                  <a:pt x="207" y="407"/>
                </a:lnTo>
                <a:lnTo>
                  <a:pt x="250" y="437"/>
                </a:lnTo>
                <a:lnTo>
                  <a:pt x="297" y="463"/>
                </a:lnTo>
                <a:lnTo>
                  <a:pt x="346" y="486"/>
                </a:lnTo>
                <a:lnTo>
                  <a:pt x="399" y="503"/>
                </a:lnTo>
                <a:lnTo>
                  <a:pt x="453" y="517"/>
                </a:lnTo>
                <a:lnTo>
                  <a:pt x="509" y="524"/>
                </a:lnTo>
                <a:lnTo>
                  <a:pt x="568" y="527"/>
                </a:lnTo>
                <a:lnTo>
                  <a:pt x="686" y="527"/>
                </a:lnTo>
                <a:lnTo>
                  <a:pt x="734" y="525"/>
                </a:lnTo>
                <a:lnTo>
                  <a:pt x="781" y="519"/>
                </a:lnTo>
                <a:lnTo>
                  <a:pt x="828" y="510"/>
                </a:lnTo>
                <a:lnTo>
                  <a:pt x="873" y="498"/>
                </a:lnTo>
                <a:lnTo>
                  <a:pt x="916" y="482"/>
                </a:lnTo>
                <a:lnTo>
                  <a:pt x="957" y="463"/>
                </a:lnTo>
                <a:lnTo>
                  <a:pt x="1035" y="415"/>
                </a:lnTo>
                <a:lnTo>
                  <a:pt x="1103" y="357"/>
                </a:lnTo>
                <a:lnTo>
                  <a:pt x="1160" y="289"/>
                </a:lnTo>
                <a:lnTo>
                  <a:pt x="1184" y="251"/>
                </a:lnTo>
                <a:lnTo>
                  <a:pt x="1205" y="212"/>
                </a:lnTo>
                <a:lnTo>
                  <a:pt x="1223" y="171"/>
                </a:lnTo>
                <a:lnTo>
                  <a:pt x="1236" y="127"/>
                </a:lnTo>
                <a:lnTo>
                  <a:pt x="1375" y="127"/>
                </a:lnTo>
                <a:lnTo>
                  <a:pt x="1194" y="0"/>
                </a:lnTo>
                <a:lnTo>
                  <a:pt x="978" y="127"/>
                </a:lnTo>
                <a:lnTo>
                  <a:pt x="1118" y="127"/>
                </a:lnTo>
                <a:lnTo>
                  <a:pt x="1089" y="205"/>
                </a:lnTo>
                <a:lnTo>
                  <a:pt x="1050" y="277"/>
                </a:lnTo>
                <a:lnTo>
                  <a:pt x="999" y="342"/>
                </a:lnTo>
                <a:lnTo>
                  <a:pt x="939" y="398"/>
                </a:lnTo>
                <a:lnTo>
                  <a:pt x="871" y="445"/>
                </a:lnTo>
                <a:lnTo>
                  <a:pt x="795" y="483"/>
                </a:lnTo>
                <a:lnTo>
                  <a:pt x="713" y="509"/>
                </a:lnTo>
                <a:lnTo>
                  <a:pt x="627" y="524"/>
                </a:lnTo>
                <a:lnTo>
                  <a:pt x="626" y="524"/>
                </a:lnTo>
                <a:lnTo>
                  <a:pt x="573" y="517"/>
                </a:lnTo>
                <a:lnTo>
                  <a:pt x="522" y="505"/>
                </a:lnTo>
                <a:lnTo>
                  <a:pt x="472" y="488"/>
                </a:lnTo>
                <a:lnTo>
                  <a:pt x="426" y="468"/>
                </a:lnTo>
                <a:lnTo>
                  <a:pt x="381" y="444"/>
                </a:lnTo>
                <a:lnTo>
                  <a:pt x="339" y="417"/>
                </a:lnTo>
                <a:lnTo>
                  <a:pt x="300" y="386"/>
                </a:lnTo>
                <a:lnTo>
                  <a:pt x="264" y="353"/>
                </a:lnTo>
                <a:lnTo>
                  <a:pt x="232" y="316"/>
                </a:lnTo>
                <a:lnTo>
                  <a:pt x="203" y="277"/>
                </a:lnTo>
                <a:lnTo>
                  <a:pt x="179" y="235"/>
                </a:lnTo>
                <a:lnTo>
                  <a:pt x="158" y="191"/>
                </a:lnTo>
                <a:lnTo>
                  <a:pt x="141" y="146"/>
                </a:lnTo>
                <a:lnTo>
                  <a:pt x="129" y="99"/>
                </a:lnTo>
                <a:lnTo>
                  <a:pt x="121" y="50"/>
                </a:lnTo>
                <a:lnTo>
                  <a:pt x="119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3809880" y="3124080"/>
            <a:ext cx="2041560" cy="9162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1286" h="577">
                <a:moveTo>
                  <a:pt x="0" y="576"/>
                </a:moveTo>
                <a:lnTo>
                  <a:pt x="3" y="517"/>
                </a:lnTo>
                <a:lnTo>
                  <a:pt x="11" y="460"/>
                </a:lnTo>
                <a:lnTo>
                  <a:pt x="23" y="405"/>
                </a:lnTo>
                <a:lnTo>
                  <a:pt x="41" y="352"/>
                </a:lnTo>
                <a:lnTo>
                  <a:pt x="63" y="302"/>
                </a:lnTo>
                <a:lnTo>
                  <a:pt x="89" y="254"/>
                </a:lnTo>
                <a:lnTo>
                  <a:pt x="119" y="210"/>
                </a:lnTo>
                <a:lnTo>
                  <a:pt x="152" y="169"/>
                </a:lnTo>
                <a:lnTo>
                  <a:pt x="189" y="132"/>
                </a:lnTo>
                <a:lnTo>
                  <a:pt x="229" y="98"/>
                </a:lnTo>
                <a:lnTo>
                  <a:pt x="272" y="69"/>
                </a:lnTo>
                <a:lnTo>
                  <a:pt x="317" y="45"/>
                </a:lnTo>
                <a:lnTo>
                  <a:pt x="365" y="26"/>
                </a:lnTo>
                <a:lnTo>
                  <a:pt x="414" y="12"/>
                </a:lnTo>
                <a:lnTo>
                  <a:pt x="466" y="3"/>
                </a:lnTo>
                <a:lnTo>
                  <a:pt x="519" y="0"/>
                </a:lnTo>
                <a:lnTo>
                  <a:pt x="593" y="0"/>
                </a:lnTo>
                <a:lnTo>
                  <a:pt x="639" y="2"/>
                </a:lnTo>
                <a:lnTo>
                  <a:pt x="683" y="9"/>
                </a:lnTo>
                <a:lnTo>
                  <a:pt x="727" y="20"/>
                </a:lnTo>
                <a:lnTo>
                  <a:pt x="769" y="34"/>
                </a:lnTo>
                <a:lnTo>
                  <a:pt x="810" y="53"/>
                </a:lnTo>
                <a:lnTo>
                  <a:pt x="848" y="74"/>
                </a:lnTo>
                <a:lnTo>
                  <a:pt x="885" y="100"/>
                </a:lnTo>
                <a:lnTo>
                  <a:pt x="920" y="129"/>
                </a:lnTo>
                <a:lnTo>
                  <a:pt x="952" y="160"/>
                </a:lnTo>
                <a:lnTo>
                  <a:pt x="983" y="195"/>
                </a:lnTo>
                <a:lnTo>
                  <a:pt x="1035" y="273"/>
                </a:lnTo>
                <a:lnTo>
                  <a:pt x="1056" y="316"/>
                </a:lnTo>
                <a:lnTo>
                  <a:pt x="1075" y="360"/>
                </a:lnTo>
                <a:lnTo>
                  <a:pt x="1090" y="408"/>
                </a:lnTo>
                <a:lnTo>
                  <a:pt x="1101" y="456"/>
                </a:lnTo>
                <a:lnTo>
                  <a:pt x="1285" y="456"/>
                </a:lnTo>
                <a:lnTo>
                  <a:pt x="1076" y="576"/>
                </a:lnTo>
                <a:lnTo>
                  <a:pt x="844" y="456"/>
                </a:lnTo>
                <a:lnTo>
                  <a:pt x="1027" y="456"/>
                </a:lnTo>
                <a:lnTo>
                  <a:pt x="1017" y="410"/>
                </a:lnTo>
                <a:lnTo>
                  <a:pt x="1003" y="365"/>
                </a:lnTo>
                <a:lnTo>
                  <a:pt x="966" y="282"/>
                </a:lnTo>
                <a:lnTo>
                  <a:pt x="918" y="207"/>
                </a:lnTo>
                <a:lnTo>
                  <a:pt x="860" y="142"/>
                </a:lnTo>
                <a:lnTo>
                  <a:pt x="794" y="87"/>
                </a:lnTo>
                <a:lnTo>
                  <a:pt x="758" y="65"/>
                </a:lnTo>
                <a:lnTo>
                  <a:pt x="720" y="45"/>
                </a:lnTo>
                <a:lnTo>
                  <a:pt x="681" y="29"/>
                </a:lnTo>
                <a:lnTo>
                  <a:pt x="641" y="16"/>
                </a:lnTo>
                <a:lnTo>
                  <a:pt x="599" y="7"/>
                </a:lnTo>
                <a:lnTo>
                  <a:pt x="556" y="2"/>
                </a:lnTo>
                <a:lnTo>
                  <a:pt x="506" y="8"/>
                </a:lnTo>
                <a:lnTo>
                  <a:pt x="458" y="20"/>
                </a:lnTo>
                <a:lnTo>
                  <a:pt x="411" y="37"/>
                </a:lnTo>
                <a:lnTo>
                  <a:pt x="366" y="58"/>
                </a:lnTo>
                <a:lnTo>
                  <a:pt x="324" y="83"/>
                </a:lnTo>
                <a:lnTo>
                  <a:pt x="284" y="113"/>
                </a:lnTo>
                <a:lnTo>
                  <a:pt x="247" y="147"/>
                </a:lnTo>
                <a:lnTo>
                  <a:pt x="214" y="184"/>
                </a:lnTo>
                <a:lnTo>
                  <a:pt x="183" y="224"/>
                </a:lnTo>
                <a:lnTo>
                  <a:pt x="155" y="267"/>
                </a:lnTo>
                <a:lnTo>
                  <a:pt x="131" y="314"/>
                </a:lnTo>
                <a:lnTo>
                  <a:pt x="111" y="362"/>
                </a:lnTo>
                <a:lnTo>
                  <a:pt x="95" y="413"/>
                </a:lnTo>
                <a:lnTo>
                  <a:pt x="84" y="466"/>
                </a:lnTo>
                <a:lnTo>
                  <a:pt x="77" y="520"/>
                </a:lnTo>
                <a:lnTo>
                  <a:pt x="74" y="576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6"/>
          <p:cNvSpPr/>
          <p:nvPr/>
        </p:nvSpPr>
        <p:spPr>
          <a:xfrm>
            <a:off x="3276720" y="3124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0"/>
          <p:cNvSpPr/>
          <p:nvPr/>
        </p:nvSpPr>
        <p:spPr>
          <a:xfrm>
            <a:off x="3975120" y="4660920"/>
            <a:ext cx="1703520" cy="61128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1073" h="385">
                <a:moveTo>
                  <a:pt x="1072" y="24"/>
                </a:moveTo>
                <a:lnTo>
                  <a:pt x="1061" y="42"/>
                </a:lnTo>
                <a:lnTo>
                  <a:pt x="1046" y="66"/>
                </a:lnTo>
                <a:lnTo>
                  <a:pt x="1030" y="96"/>
                </a:lnTo>
                <a:lnTo>
                  <a:pt x="1011" y="128"/>
                </a:lnTo>
                <a:lnTo>
                  <a:pt x="989" y="161"/>
                </a:lnTo>
                <a:lnTo>
                  <a:pt x="964" y="193"/>
                </a:lnTo>
                <a:lnTo>
                  <a:pt x="935" y="223"/>
                </a:lnTo>
                <a:lnTo>
                  <a:pt x="904" y="248"/>
                </a:lnTo>
                <a:lnTo>
                  <a:pt x="869" y="271"/>
                </a:lnTo>
                <a:lnTo>
                  <a:pt x="828" y="294"/>
                </a:lnTo>
                <a:lnTo>
                  <a:pt x="783" y="316"/>
                </a:lnTo>
                <a:lnTo>
                  <a:pt x="736" y="337"/>
                </a:lnTo>
                <a:lnTo>
                  <a:pt x="688" y="355"/>
                </a:lnTo>
                <a:lnTo>
                  <a:pt x="639" y="369"/>
                </a:lnTo>
                <a:lnTo>
                  <a:pt x="591" y="379"/>
                </a:lnTo>
                <a:lnTo>
                  <a:pt x="544" y="384"/>
                </a:lnTo>
                <a:lnTo>
                  <a:pt x="498" y="384"/>
                </a:lnTo>
                <a:lnTo>
                  <a:pt x="450" y="379"/>
                </a:lnTo>
                <a:lnTo>
                  <a:pt x="402" y="370"/>
                </a:lnTo>
                <a:lnTo>
                  <a:pt x="354" y="358"/>
                </a:lnTo>
                <a:lnTo>
                  <a:pt x="306" y="343"/>
                </a:lnTo>
                <a:lnTo>
                  <a:pt x="262" y="324"/>
                </a:lnTo>
                <a:lnTo>
                  <a:pt x="221" y="303"/>
                </a:lnTo>
                <a:lnTo>
                  <a:pt x="184" y="280"/>
                </a:lnTo>
                <a:lnTo>
                  <a:pt x="152" y="252"/>
                </a:lnTo>
                <a:lnTo>
                  <a:pt x="122" y="217"/>
                </a:lnTo>
                <a:lnTo>
                  <a:pt x="96" y="179"/>
                </a:lnTo>
                <a:lnTo>
                  <a:pt x="72" y="138"/>
                </a:lnTo>
                <a:lnTo>
                  <a:pt x="51" y="97"/>
                </a:lnTo>
                <a:lnTo>
                  <a:pt x="32" y="59"/>
                </a:lnTo>
                <a:lnTo>
                  <a:pt x="15" y="2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3873600" y="2693880"/>
            <a:ext cx="1904760" cy="641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icólisis &gt;&gt;&gt;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6680160" y="2363760"/>
            <a:ext cx="905040" cy="10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6680160" y="3608280"/>
            <a:ext cx="2214720" cy="78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ICLO GLU-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3980880" y="5184720"/>
            <a:ext cx="167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nt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229680"/>
            <a:ext cx="7769160" cy="606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entes de energía en Ce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547640" y="2211480"/>
            <a:ext cx="2525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5322960" y="2058840"/>
            <a:ext cx="7412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674800" y="1528920"/>
            <a:ext cx="13874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2729520" y="3887640"/>
            <a:ext cx="125784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5254560" y="3887640"/>
            <a:ext cx="77652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3063960" y="5124600"/>
            <a:ext cx="2948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ransporte electro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a Na+ K+ AT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etabolism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9"/>
          <p:cNvSpPr/>
          <p:nvPr/>
        </p:nvSpPr>
        <p:spPr>
          <a:xfrm>
            <a:off x="3429000" y="2666880"/>
            <a:ext cx="2124000" cy="61128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1338" h="385">
                <a:moveTo>
                  <a:pt x="0" y="0"/>
                </a:moveTo>
                <a:lnTo>
                  <a:pt x="3" y="39"/>
                </a:lnTo>
                <a:lnTo>
                  <a:pt x="12" y="78"/>
                </a:lnTo>
                <a:lnTo>
                  <a:pt x="25" y="115"/>
                </a:lnTo>
                <a:lnTo>
                  <a:pt x="43" y="150"/>
                </a:lnTo>
                <a:lnTo>
                  <a:pt x="66" y="183"/>
                </a:lnTo>
                <a:lnTo>
                  <a:pt x="94" y="215"/>
                </a:lnTo>
                <a:lnTo>
                  <a:pt x="126" y="245"/>
                </a:lnTo>
                <a:lnTo>
                  <a:pt x="161" y="272"/>
                </a:lnTo>
                <a:lnTo>
                  <a:pt x="199" y="296"/>
                </a:lnTo>
                <a:lnTo>
                  <a:pt x="242" y="319"/>
                </a:lnTo>
                <a:lnTo>
                  <a:pt x="287" y="338"/>
                </a:lnTo>
                <a:lnTo>
                  <a:pt x="335" y="354"/>
                </a:lnTo>
                <a:lnTo>
                  <a:pt x="385" y="367"/>
                </a:lnTo>
                <a:lnTo>
                  <a:pt x="437" y="376"/>
                </a:lnTo>
                <a:lnTo>
                  <a:pt x="491" y="382"/>
                </a:lnTo>
                <a:lnTo>
                  <a:pt x="547" y="384"/>
                </a:lnTo>
                <a:lnTo>
                  <a:pt x="706" y="384"/>
                </a:lnTo>
                <a:lnTo>
                  <a:pt x="783" y="380"/>
                </a:lnTo>
                <a:lnTo>
                  <a:pt x="858" y="369"/>
                </a:lnTo>
                <a:lnTo>
                  <a:pt x="929" y="350"/>
                </a:lnTo>
                <a:lnTo>
                  <a:pt x="996" y="326"/>
                </a:lnTo>
                <a:lnTo>
                  <a:pt x="1057" y="294"/>
                </a:lnTo>
                <a:lnTo>
                  <a:pt x="1112" y="257"/>
                </a:lnTo>
                <a:lnTo>
                  <a:pt x="1159" y="215"/>
                </a:lnTo>
                <a:lnTo>
                  <a:pt x="1198" y="168"/>
                </a:lnTo>
                <a:lnTo>
                  <a:pt x="1337" y="168"/>
                </a:lnTo>
                <a:lnTo>
                  <a:pt x="1174" y="0"/>
                </a:lnTo>
                <a:lnTo>
                  <a:pt x="900" y="168"/>
                </a:lnTo>
                <a:lnTo>
                  <a:pt x="1039" y="168"/>
                </a:lnTo>
                <a:lnTo>
                  <a:pt x="1006" y="209"/>
                </a:lnTo>
                <a:lnTo>
                  <a:pt x="967" y="247"/>
                </a:lnTo>
                <a:lnTo>
                  <a:pt x="921" y="280"/>
                </a:lnTo>
                <a:lnTo>
                  <a:pt x="870" y="310"/>
                </a:lnTo>
                <a:lnTo>
                  <a:pt x="815" y="335"/>
                </a:lnTo>
                <a:lnTo>
                  <a:pt x="756" y="355"/>
                </a:lnTo>
                <a:lnTo>
                  <a:pt x="692" y="371"/>
                </a:lnTo>
                <a:lnTo>
                  <a:pt x="627" y="380"/>
                </a:lnTo>
                <a:lnTo>
                  <a:pt x="529" y="364"/>
                </a:lnTo>
                <a:lnTo>
                  <a:pt x="441" y="336"/>
                </a:lnTo>
                <a:lnTo>
                  <a:pt x="361" y="298"/>
                </a:lnTo>
                <a:lnTo>
                  <a:pt x="292" y="252"/>
                </a:lnTo>
                <a:lnTo>
                  <a:pt x="262" y="225"/>
                </a:lnTo>
                <a:lnTo>
                  <a:pt x="236" y="197"/>
                </a:lnTo>
                <a:lnTo>
                  <a:pt x="213" y="167"/>
                </a:lnTo>
                <a:lnTo>
                  <a:pt x="194" y="136"/>
                </a:lnTo>
                <a:lnTo>
                  <a:pt x="179" y="103"/>
                </a:lnTo>
                <a:lnTo>
                  <a:pt x="168" y="70"/>
                </a:lnTo>
                <a:lnTo>
                  <a:pt x="161" y="36"/>
                </a:lnTo>
                <a:lnTo>
                  <a:pt x="159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0"/>
          <p:cNvSpPr/>
          <p:nvPr/>
        </p:nvSpPr>
        <p:spPr>
          <a:xfrm>
            <a:off x="3581280" y="3276720"/>
            <a:ext cx="2090880" cy="4586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317" h="289">
                <a:moveTo>
                  <a:pt x="0" y="288"/>
                </a:moveTo>
                <a:lnTo>
                  <a:pt x="3" y="259"/>
                </a:lnTo>
                <a:lnTo>
                  <a:pt x="10" y="230"/>
                </a:lnTo>
                <a:lnTo>
                  <a:pt x="22" y="203"/>
                </a:lnTo>
                <a:lnTo>
                  <a:pt x="38" y="176"/>
                </a:lnTo>
                <a:lnTo>
                  <a:pt x="59" y="151"/>
                </a:lnTo>
                <a:lnTo>
                  <a:pt x="84" y="127"/>
                </a:lnTo>
                <a:lnTo>
                  <a:pt x="112" y="105"/>
                </a:lnTo>
                <a:lnTo>
                  <a:pt x="144" y="85"/>
                </a:lnTo>
                <a:lnTo>
                  <a:pt x="178" y="66"/>
                </a:lnTo>
                <a:lnTo>
                  <a:pt x="216" y="49"/>
                </a:lnTo>
                <a:lnTo>
                  <a:pt x="300" y="23"/>
                </a:lnTo>
                <a:lnTo>
                  <a:pt x="392" y="6"/>
                </a:lnTo>
                <a:lnTo>
                  <a:pt x="491" y="0"/>
                </a:lnTo>
                <a:lnTo>
                  <a:pt x="680" y="0"/>
                </a:lnTo>
                <a:lnTo>
                  <a:pt x="757" y="4"/>
                </a:lnTo>
                <a:lnTo>
                  <a:pt x="830" y="14"/>
                </a:lnTo>
                <a:lnTo>
                  <a:pt x="900" y="31"/>
                </a:lnTo>
                <a:lnTo>
                  <a:pt x="963" y="53"/>
                </a:lnTo>
                <a:lnTo>
                  <a:pt x="1020" y="81"/>
                </a:lnTo>
                <a:lnTo>
                  <a:pt x="1070" y="114"/>
                </a:lnTo>
                <a:lnTo>
                  <a:pt x="1111" y="151"/>
                </a:lnTo>
                <a:lnTo>
                  <a:pt x="1142" y="192"/>
                </a:lnTo>
                <a:lnTo>
                  <a:pt x="1316" y="192"/>
                </a:lnTo>
                <a:lnTo>
                  <a:pt x="1075" y="288"/>
                </a:lnTo>
                <a:lnTo>
                  <a:pt x="779" y="192"/>
                </a:lnTo>
                <a:lnTo>
                  <a:pt x="953" y="192"/>
                </a:lnTo>
                <a:lnTo>
                  <a:pt x="928" y="157"/>
                </a:lnTo>
                <a:lnTo>
                  <a:pt x="895" y="125"/>
                </a:lnTo>
                <a:lnTo>
                  <a:pt x="856" y="96"/>
                </a:lnTo>
                <a:lnTo>
                  <a:pt x="811" y="70"/>
                </a:lnTo>
                <a:lnTo>
                  <a:pt x="761" y="48"/>
                </a:lnTo>
                <a:lnTo>
                  <a:pt x="706" y="29"/>
                </a:lnTo>
                <a:lnTo>
                  <a:pt x="647" y="15"/>
                </a:lnTo>
                <a:lnTo>
                  <a:pt x="585" y="6"/>
                </a:lnTo>
                <a:lnTo>
                  <a:pt x="502" y="20"/>
                </a:lnTo>
                <a:lnTo>
                  <a:pt x="426" y="42"/>
                </a:lnTo>
                <a:lnTo>
                  <a:pt x="359" y="70"/>
                </a:lnTo>
                <a:lnTo>
                  <a:pt x="302" y="105"/>
                </a:lnTo>
                <a:lnTo>
                  <a:pt x="254" y="145"/>
                </a:lnTo>
                <a:lnTo>
                  <a:pt x="235" y="167"/>
                </a:lnTo>
                <a:lnTo>
                  <a:pt x="220" y="190"/>
                </a:lnTo>
                <a:lnTo>
                  <a:pt x="207" y="214"/>
                </a:lnTo>
                <a:lnTo>
                  <a:pt x="197" y="238"/>
                </a:lnTo>
                <a:lnTo>
                  <a:pt x="192" y="263"/>
                </a:lnTo>
                <a:lnTo>
                  <a:pt x="190" y="288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1"/>
          <p:cNvSpPr/>
          <p:nvPr/>
        </p:nvSpPr>
        <p:spPr>
          <a:xfrm>
            <a:off x="3733920" y="4419720"/>
            <a:ext cx="1703160" cy="610920"/>
          </a:xfrm>
          <a:custGeom>
            <a:avLst/>
            <a:gdLst>
              <a:gd name="textAreaLeft" fmla="*/ 0 w 1703160"/>
              <a:gd name="textAreaRight" fmla="*/ 1703520 w 170316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1073" h="385">
                <a:moveTo>
                  <a:pt x="1072" y="24"/>
                </a:moveTo>
                <a:lnTo>
                  <a:pt x="1061" y="42"/>
                </a:lnTo>
                <a:lnTo>
                  <a:pt x="1047" y="66"/>
                </a:lnTo>
                <a:lnTo>
                  <a:pt x="1030" y="95"/>
                </a:lnTo>
                <a:lnTo>
                  <a:pt x="1011" y="128"/>
                </a:lnTo>
                <a:lnTo>
                  <a:pt x="989" y="161"/>
                </a:lnTo>
                <a:lnTo>
                  <a:pt x="963" y="193"/>
                </a:lnTo>
                <a:lnTo>
                  <a:pt x="936" y="223"/>
                </a:lnTo>
                <a:lnTo>
                  <a:pt x="904" y="248"/>
                </a:lnTo>
                <a:lnTo>
                  <a:pt x="869" y="271"/>
                </a:lnTo>
                <a:lnTo>
                  <a:pt x="828" y="294"/>
                </a:lnTo>
                <a:lnTo>
                  <a:pt x="783" y="316"/>
                </a:lnTo>
                <a:lnTo>
                  <a:pt x="736" y="337"/>
                </a:lnTo>
                <a:lnTo>
                  <a:pt x="688" y="355"/>
                </a:lnTo>
                <a:lnTo>
                  <a:pt x="639" y="369"/>
                </a:lnTo>
                <a:lnTo>
                  <a:pt x="590" y="380"/>
                </a:lnTo>
                <a:lnTo>
                  <a:pt x="544" y="384"/>
                </a:lnTo>
                <a:lnTo>
                  <a:pt x="498" y="384"/>
                </a:lnTo>
                <a:lnTo>
                  <a:pt x="450" y="379"/>
                </a:lnTo>
                <a:lnTo>
                  <a:pt x="401" y="370"/>
                </a:lnTo>
                <a:lnTo>
                  <a:pt x="353" y="358"/>
                </a:lnTo>
                <a:lnTo>
                  <a:pt x="307" y="342"/>
                </a:lnTo>
                <a:lnTo>
                  <a:pt x="262" y="324"/>
                </a:lnTo>
                <a:lnTo>
                  <a:pt x="221" y="303"/>
                </a:lnTo>
                <a:lnTo>
                  <a:pt x="184" y="280"/>
                </a:lnTo>
                <a:lnTo>
                  <a:pt x="152" y="252"/>
                </a:lnTo>
                <a:lnTo>
                  <a:pt x="122" y="218"/>
                </a:lnTo>
                <a:lnTo>
                  <a:pt x="96" y="179"/>
                </a:lnTo>
                <a:lnTo>
                  <a:pt x="72" y="138"/>
                </a:lnTo>
                <a:lnTo>
                  <a:pt x="51" y="98"/>
                </a:lnTo>
                <a:lnTo>
                  <a:pt x="32" y="59"/>
                </a:lnTo>
                <a:lnTo>
                  <a:pt x="15" y="2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>
            <a:off x="1774800" y="1770120"/>
            <a:ext cx="889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179280" y="1542960"/>
            <a:ext cx="16099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et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181080" y="85680"/>
            <a:ext cx="8816760" cy="48600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ADOS DE HOMEOSTASIA DE LA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62000" y="541440"/>
          <a:ext cx="8854920" cy="6329160"/>
        </p:xfrm>
        <a:graphic>
          <a:graphicData uri="http://schemas.openxmlformats.org/drawingml/2006/table">
            <a:tbl>
              <a:tblPr/>
              <a:tblGrid>
                <a:gridCol w="1920960"/>
                <a:gridCol w="1253880"/>
                <a:gridCol w="3414960"/>
                <a:gridCol w="2265120"/>
              </a:tblGrid>
              <a:tr h="642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UR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INCIPAL COMBUST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 h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de Glu por tej. perif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. de Ggeno, TG y proteí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ra la mayoría de los tejid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u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12 h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estimula la degradación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eno. hepático y T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l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músculo e híg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53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nición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s – 16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lisis de TG y Cetogén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I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lu y Cpos. Cetónic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 y Cpos.cetónic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múscul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nición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6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adación de proteína muscular (aminoácidos p/gluconeogene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s. Cetónic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úsc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26" name="Rectángulo 3"/>
          <p:cNvSpPr/>
          <p:nvPr/>
        </p:nvSpPr>
        <p:spPr>
          <a:xfrm>
            <a:off x="162000" y="1197000"/>
            <a:ext cx="8854920" cy="122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ángulo 4"/>
          <p:cNvSpPr/>
          <p:nvPr/>
        </p:nvSpPr>
        <p:spPr>
          <a:xfrm>
            <a:off x="181080" y="2421000"/>
            <a:ext cx="8854920" cy="107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ángulo 5"/>
          <p:cNvSpPr/>
          <p:nvPr/>
        </p:nvSpPr>
        <p:spPr>
          <a:xfrm>
            <a:off x="171360" y="3500280"/>
            <a:ext cx="8855280" cy="165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ángulo 6"/>
          <p:cNvSpPr/>
          <p:nvPr/>
        </p:nvSpPr>
        <p:spPr>
          <a:xfrm>
            <a:off x="171360" y="5157720"/>
            <a:ext cx="8855280" cy="165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background image"/>
          <p:cNvPicPr/>
          <p:nvPr/>
        </p:nvPicPr>
        <p:blipFill>
          <a:blip r:embed="rId1"/>
          <a:srcRect l="23315" t="3215" r="23173" b="4161"/>
          <a:stretch/>
        </p:blipFill>
        <p:spPr>
          <a:xfrm>
            <a:off x="1898640" y="216000"/>
            <a:ext cx="5391000" cy="6597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 rot="16200000">
            <a:off x="-2476440" y="3347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CuadroTexto"/>
          <p:cNvSpPr/>
          <p:nvPr/>
        </p:nvSpPr>
        <p:spPr>
          <a:xfrm>
            <a:off x="5580000" y="1052640"/>
            <a:ext cx="3313080" cy="47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33"/>
                </a:solidFill>
                <a:latin typeface="Century Gothic"/>
              </a:rPr>
              <a:t>El metabolismo posee una estructura coherente y con aspectos comunes con la gran cantidad de reacciones que se producen en todos los organismos v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Gran numero de reacciones </a:t>
            </a:r>
            <a:r>
              <a:rPr b="1" lang="es-MX" sz="1600" spc="-1" strike="noStrike">
                <a:solidFill>
                  <a:srgbClr val="993366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 pocas clases de reacciones </a:t>
            </a:r>
            <a:r>
              <a:rPr b="1" lang="es-MX" sz="1600" spc="-1" strike="noStrike">
                <a:solidFill>
                  <a:srgbClr val="993366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 con mecanismos de regulación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Century Gothic"/>
              </a:rPr>
              <a:t>Las vías metabólicas están interrelacionadas asegurando así un comportamiento funcional, unitario del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4284720" y="495360"/>
            <a:ext cx="4606920" cy="5433840"/>
            <a:chOff x="4284720" y="495360"/>
            <a:chExt cx="4606920" cy="5433840"/>
          </a:xfrm>
        </p:grpSpPr>
        <p:pic>
          <p:nvPicPr>
            <p:cNvPr id="90" name="Picture 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495360"/>
              <a:ext cx="460692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"/>
            <p:cNvSpPr/>
            <p:nvPr/>
          </p:nvSpPr>
          <p:spPr>
            <a:xfrm>
              <a:off x="6066720" y="3878280"/>
              <a:ext cx="182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ías an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di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"/>
          <p:cNvGrpSpPr/>
          <p:nvPr/>
        </p:nvGrpSpPr>
        <p:grpSpPr>
          <a:xfrm>
            <a:off x="254160" y="514440"/>
            <a:ext cx="4174560" cy="5506560"/>
            <a:chOff x="254160" y="514440"/>
            <a:chExt cx="4174560" cy="5506560"/>
          </a:xfrm>
        </p:grpSpPr>
        <p:pic>
          <p:nvPicPr>
            <p:cNvPr id="93" name="Picture 7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514440"/>
              <a:ext cx="402876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663120" y="3323160"/>
              <a:ext cx="18198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ías cat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on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276720" y="5516640"/>
              <a:ext cx="1152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0"/>
          <p:cNvSpPr/>
          <p:nvPr/>
        </p:nvSpPr>
        <p:spPr>
          <a:xfrm>
            <a:off x="447840" y="5551560"/>
            <a:ext cx="39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0080"/>
                </a:solidFill>
                <a:latin typeface="Arial"/>
              </a:rPr>
              <a:t>Compuestos de muy distinto origen y naturaleza pueden llegar a formar los mismos metabolitos y alcanzar igual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572000" y="5537160"/>
            <a:ext cx="44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99"/>
                </a:solidFill>
                <a:latin typeface="Arial"/>
              </a:rPr>
              <a:t>También a partir del mismo compuesto pueden originarse sustancias muy diver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n 2" descr=""/>
          <p:cNvPicPr/>
          <p:nvPr/>
        </p:nvPicPr>
        <p:blipFill>
          <a:blip r:embed="rId1"/>
          <a:stretch/>
        </p:blipFill>
        <p:spPr>
          <a:xfrm>
            <a:off x="216000" y="909720"/>
            <a:ext cx="8604000" cy="583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067840" y="47628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jemplo general de con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2409840" y="81108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jemplo general de di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upo 10"/>
          <p:cNvGrpSpPr/>
          <p:nvPr/>
        </p:nvGrpSpPr>
        <p:grpSpPr>
          <a:xfrm>
            <a:off x="1331640" y="1612440"/>
            <a:ext cx="6551640" cy="4552920"/>
            <a:chOff x="1331640" y="1612440"/>
            <a:chExt cx="6551640" cy="4552920"/>
          </a:xfrm>
        </p:grpSpPr>
        <p:pic>
          <p:nvPicPr>
            <p:cNvPr id="107" name="Picture 7" descr="anabolismo"/>
            <p:cNvPicPr/>
            <p:nvPr/>
          </p:nvPicPr>
          <p:blipFill>
            <a:blip r:embed="rId1"/>
            <a:stretch/>
          </p:blipFill>
          <p:spPr>
            <a:xfrm rot="10800000">
              <a:off x="1331640" y="1612080"/>
              <a:ext cx="655164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CuadroTexto 1"/>
            <p:cNvSpPr/>
            <p:nvPr/>
          </p:nvSpPr>
          <p:spPr>
            <a:xfrm>
              <a:off x="3420000" y="1772640"/>
              <a:ext cx="2304360" cy="1618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Compuestos orgánicos sencil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uadroTexto 5"/>
            <p:cNvSpPr/>
            <p:nvPr/>
          </p:nvSpPr>
          <p:spPr>
            <a:xfrm>
              <a:off x="1547640" y="3985920"/>
              <a:ext cx="92772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Líp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i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uadroTexto 6"/>
            <p:cNvSpPr/>
            <p:nvPr/>
          </p:nvSpPr>
          <p:spPr>
            <a:xfrm>
              <a:off x="2483640" y="3985920"/>
              <a:ext cx="1152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uadroTexto 7"/>
            <p:cNvSpPr/>
            <p:nvPr/>
          </p:nvSpPr>
          <p:spPr>
            <a:xfrm>
              <a:off x="3644280" y="4057200"/>
              <a:ext cx="128772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ucleó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uadroTexto 8"/>
            <p:cNvSpPr/>
            <p:nvPr/>
          </p:nvSpPr>
          <p:spPr>
            <a:xfrm>
              <a:off x="4860000" y="4057200"/>
              <a:ext cx="149544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uadroTexto 9"/>
            <p:cNvSpPr/>
            <p:nvPr/>
          </p:nvSpPr>
          <p:spPr>
            <a:xfrm>
              <a:off x="6317280" y="4057200"/>
              <a:ext cx="149544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Elipse 2"/>
            <p:cNvSpPr/>
            <p:nvPr/>
          </p:nvSpPr>
          <p:spPr>
            <a:xfrm>
              <a:off x="5940720" y="2473200"/>
              <a:ext cx="718920" cy="7398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AR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ángulo 3"/>
            <p:cNvSpPr/>
            <p:nvPr/>
          </p:nvSpPr>
          <p:spPr>
            <a:xfrm>
              <a:off x="4427640" y="3403440"/>
              <a:ext cx="936360" cy="309240"/>
            </a:xfrm>
            <a:prstGeom prst="rect">
              <a:avLst/>
            </a:prstGeom>
            <a:solidFill>
              <a:srgbClr val="b7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CuadroTexto 4"/>
            <p:cNvSpPr/>
            <p:nvPr/>
          </p:nvSpPr>
          <p:spPr>
            <a:xfrm>
              <a:off x="1690200" y="4633200"/>
              <a:ext cx="1252080" cy="30708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Triglicé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CuadroTexto 13"/>
            <p:cNvSpPr/>
            <p:nvPr/>
          </p:nvSpPr>
          <p:spPr>
            <a:xfrm>
              <a:off x="1623240" y="4993560"/>
              <a:ext cx="1238400" cy="30708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CuadroTexto 14"/>
            <p:cNvSpPr/>
            <p:nvPr/>
          </p:nvSpPr>
          <p:spPr>
            <a:xfrm>
              <a:off x="2991600" y="5425920"/>
              <a:ext cx="10220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c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uadroTexto 15"/>
            <p:cNvSpPr/>
            <p:nvPr/>
          </p:nvSpPr>
          <p:spPr>
            <a:xfrm>
              <a:off x="3999600" y="5425920"/>
              <a:ext cx="13406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uadroTexto 16"/>
            <p:cNvSpPr/>
            <p:nvPr/>
          </p:nvSpPr>
          <p:spPr>
            <a:xfrm>
              <a:off x="5387400" y="5425920"/>
              <a:ext cx="13406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de reser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CuadroTexto 17"/>
            <p:cNvSpPr/>
            <p:nvPr/>
          </p:nvSpPr>
          <p:spPr>
            <a:xfrm>
              <a:off x="6743520" y="5425920"/>
              <a:ext cx="99288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43:56Z</dcterms:created>
  <dc:creator>Colossus User</dc:creator>
  <dc:description/>
  <dc:language>en-US</dc:language>
  <cp:lastModifiedBy>fravega</cp:lastModifiedBy>
  <dcterms:modified xsi:type="dcterms:W3CDTF">2016-06-05T17:18:09Z</dcterms:modified>
  <cp:revision>64</cp:revision>
  <dc:subject/>
  <dc:title>Diapositiva 1</dc:title>
</cp:coreProperties>
</file>